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camera.wav" ContentType="audio/x-wav"/>
  <Override PartName="/ppt/media/image22.png" ContentType="image/png"/>
  <Override PartName="/ppt/media/arrow.wav" ContentType="audio/x-wav"/>
  <Override PartName="/ppt/media/image13.jpeg" ContentType="image/jpeg"/>
  <Override PartName="/ppt/media/applause.wav" ContentType="audio/x-wav"/>
  <Override PartName="/ppt/media/image6.jpeg" ContentType="image/jpeg"/>
  <Override PartName="/ppt/media/type.wav" ContentType="audio/x-wav"/>
  <Override PartName="/ppt/media/image17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5.png" ContentType="image/png"/>
  <Override PartName="/ppt/media/image10.jpeg" ContentType="image/jpe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chimes.wav" ContentType="audio/x-wav"/>
  <Override PartName="/ppt/media/projctor.wav" ContentType="audio/x-wav"/>
  <Override PartName="/ppt/media/cashreg.wav" ContentType="audio/x-wav"/>
  <Override PartName="/ppt/media/image12.jpeg" ContentType="image/jpeg"/>
  <Override PartName="/ppt/media/image1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CA5-B78A-4B59-AC1E-4D42151B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15B-C6FB-44C9-8E72-B3FECD76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5D8-3150-4949-B2F5-8F3719C6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7DB-1C27-448A-ADD6-487B3F12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EB6-F400-436C-AB15-B78A4AD3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0499-B93B-414B-A5D3-8B54BA46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F94-5F8B-48D0-A69F-12E38FB1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503-7548-4AA5-8664-026A892E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816-862D-454F-A04C-3C10FF30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43B-0878-4973-8ED6-459E9653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4B7-D506-4614-AE36-1D0D57BE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DA2-01A3-4F83-9F55-455E628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5C55-776F-4909-B772-B814D860CF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106308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圆柱和圆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0336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圆柱和圆锥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组合 230401"/>
          <p:cNvGrpSpPr/>
          <p:nvPr/>
        </p:nvGrpSpPr>
        <p:grpSpPr>
          <a:xfrm>
            <a:off x="2743200" y="4572000"/>
            <a:ext cx="3123720" cy="1162800"/>
            <a:chOff x="2743200" y="4572000"/>
            <a:chExt cx="3123720" cy="1162800"/>
          </a:xfrm>
        </p:grpSpPr>
        <p:sp>
          <p:nvSpPr>
            <p:cNvPr id="296" name="椭圆 230402"/>
            <p:cNvSpPr/>
            <p:nvPr/>
          </p:nvSpPr>
          <p:spPr>
            <a:xfrm>
              <a:off x="2743200" y="4572000"/>
              <a:ext cx="3123720" cy="1162800"/>
            </a:xfrm>
            <a:prstGeom prst="ellipse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230403"/>
            <p:cNvSpPr/>
            <p:nvPr/>
          </p:nvSpPr>
          <p:spPr>
            <a:xfrm>
              <a:off x="2743200" y="5070600"/>
              <a:ext cx="3123720" cy="664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solidFill>
              <a:srgbClr val="00cc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椭圆 230404"/>
          <p:cNvSpPr/>
          <p:nvPr/>
        </p:nvSpPr>
        <p:spPr>
          <a:xfrm>
            <a:off x="2743200" y="914400"/>
            <a:ext cx="3124080" cy="116352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230405"/>
          <p:cNvSpPr/>
          <p:nvPr/>
        </p:nvSpPr>
        <p:spPr>
          <a:xfrm>
            <a:off x="2743200" y="914400"/>
            <a:ext cx="3124080" cy="1163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230406"/>
          <p:cNvGrpSpPr/>
          <p:nvPr/>
        </p:nvGrpSpPr>
        <p:grpSpPr>
          <a:xfrm>
            <a:off x="2743200" y="4551480"/>
            <a:ext cx="3123720" cy="1162800"/>
            <a:chOff x="2743200" y="4551480"/>
            <a:chExt cx="3123720" cy="1162800"/>
          </a:xfrm>
        </p:grpSpPr>
        <p:sp>
          <p:nvSpPr>
            <p:cNvPr id="301" name="椭圆 230407"/>
            <p:cNvSpPr/>
            <p:nvPr/>
          </p:nvSpPr>
          <p:spPr>
            <a:xfrm>
              <a:off x="2743200" y="4551480"/>
              <a:ext cx="3123720" cy="116280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230408"/>
            <p:cNvSpPr/>
            <p:nvPr/>
          </p:nvSpPr>
          <p:spPr>
            <a:xfrm>
              <a:off x="2743200" y="5050080"/>
              <a:ext cx="3123720" cy="664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solidFill>
              <a:srgbClr val="ffcc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直接连接符 230409"/>
          <p:cNvSpPr/>
          <p:nvPr/>
        </p:nvSpPr>
        <p:spPr>
          <a:xfrm>
            <a:off x="586728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230410"/>
          <p:cNvSpPr/>
          <p:nvPr/>
        </p:nvSpPr>
        <p:spPr>
          <a:xfrm>
            <a:off x="274320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230411"/>
          <p:cNvSpPr/>
          <p:nvPr/>
        </p:nvSpPr>
        <p:spPr>
          <a:xfrm>
            <a:off x="3733920" y="838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30412"/>
          <p:cNvSpPr/>
          <p:nvPr/>
        </p:nvSpPr>
        <p:spPr>
          <a:xfrm>
            <a:off x="4419720" y="4648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底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5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直接连接符 231425"/>
          <p:cNvSpPr/>
          <p:nvPr/>
        </p:nvSpPr>
        <p:spPr>
          <a:xfrm>
            <a:off x="586728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31426"/>
          <p:cNvSpPr/>
          <p:nvPr/>
        </p:nvSpPr>
        <p:spPr>
          <a:xfrm>
            <a:off x="274320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231427"/>
          <p:cNvGrpSpPr/>
          <p:nvPr/>
        </p:nvGrpSpPr>
        <p:grpSpPr>
          <a:xfrm>
            <a:off x="2743200" y="838080"/>
            <a:ext cx="3124080" cy="1239840"/>
            <a:chOff x="2743200" y="838080"/>
            <a:chExt cx="3124080" cy="1239840"/>
          </a:xfrm>
        </p:grpSpPr>
        <p:sp>
          <p:nvSpPr>
            <p:cNvPr id="310" name="椭圆 231428"/>
            <p:cNvSpPr/>
            <p:nvPr/>
          </p:nvSpPr>
          <p:spPr>
            <a:xfrm>
              <a:off x="2743200" y="91440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231429"/>
            <p:cNvSpPr/>
            <p:nvPr/>
          </p:nvSpPr>
          <p:spPr>
            <a:xfrm>
              <a:off x="3733920" y="8380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231430"/>
          <p:cNvGrpSpPr/>
          <p:nvPr/>
        </p:nvGrpSpPr>
        <p:grpSpPr>
          <a:xfrm>
            <a:off x="2743200" y="4572000"/>
            <a:ext cx="3123720" cy="1162800"/>
            <a:chOff x="2743200" y="4572000"/>
            <a:chExt cx="3123720" cy="1162800"/>
          </a:xfrm>
        </p:grpSpPr>
        <p:grpSp>
          <p:nvGrpSpPr>
            <p:cNvPr id="313" name="组合 231431"/>
            <p:cNvGrpSpPr/>
            <p:nvPr/>
          </p:nvGrpSpPr>
          <p:grpSpPr>
            <a:xfrm>
              <a:off x="2743200" y="4572000"/>
              <a:ext cx="3123720" cy="1162800"/>
              <a:chOff x="2743200" y="4572000"/>
              <a:chExt cx="3123720" cy="1162800"/>
            </a:xfrm>
          </p:grpSpPr>
          <p:sp>
            <p:nvSpPr>
              <p:cNvPr id="314" name="椭圆 231432"/>
              <p:cNvSpPr/>
              <p:nvPr/>
            </p:nvSpPr>
            <p:spPr>
              <a:xfrm>
                <a:off x="2743200" y="4572000"/>
                <a:ext cx="3123720" cy="1162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 231433"/>
              <p:cNvSpPr/>
              <p:nvPr/>
            </p:nvSpPr>
            <p:spPr>
              <a:xfrm>
                <a:off x="2743200" y="5070600"/>
                <a:ext cx="3123720" cy="66420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0" y="36"/>
                    </a:lnTo>
                    <a:lnTo>
                      <a:pt x="12" y="60"/>
                    </a:lnTo>
                    <a:lnTo>
                      <a:pt x="36" y="90"/>
                    </a:lnTo>
                    <a:lnTo>
                      <a:pt x="51" y="96"/>
                    </a:lnTo>
                    <a:lnTo>
                      <a:pt x="99" y="123"/>
                    </a:lnTo>
                    <a:lnTo>
                      <a:pt x="174" y="150"/>
                    </a:lnTo>
                    <a:lnTo>
                      <a:pt x="312" y="177"/>
                    </a:lnTo>
                    <a:lnTo>
                      <a:pt x="408" y="186"/>
                    </a:lnTo>
                    <a:lnTo>
                      <a:pt x="513" y="192"/>
                    </a:lnTo>
                    <a:lnTo>
                      <a:pt x="615" y="189"/>
                    </a:lnTo>
                    <a:lnTo>
                      <a:pt x="714" y="183"/>
                    </a:lnTo>
                    <a:lnTo>
                      <a:pt x="768" y="174"/>
                    </a:lnTo>
                    <a:lnTo>
                      <a:pt x="888" y="147"/>
                    </a:lnTo>
                    <a:lnTo>
                      <a:pt x="975" y="114"/>
                    </a:lnTo>
                    <a:lnTo>
                      <a:pt x="1002" y="96"/>
                    </a:lnTo>
                    <a:lnTo>
                      <a:pt x="1044" y="60"/>
                    </a:lnTo>
                    <a:lnTo>
                      <a:pt x="1056" y="36"/>
                    </a:lnTo>
                    <a:lnTo>
                      <a:pt x="1056" y="1"/>
                    </a:lnTo>
                  </a:path>
                </a:pathLst>
              </a:custGeom>
              <a:solidFill>
                <a:srgbClr val="ffcc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文本框 231434"/>
            <p:cNvSpPr/>
            <p:nvPr/>
          </p:nvSpPr>
          <p:spPr>
            <a:xfrm>
              <a:off x="4419720" y="46688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任意多边形 231435"/>
          <p:cNvSpPr/>
          <p:nvPr/>
        </p:nvSpPr>
        <p:spPr>
          <a:xfrm>
            <a:off x="2719440" y="1542960"/>
            <a:ext cx="3147840" cy="4202280"/>
          </a:xfrm>
          <a:custGeom>
            <a:avLst/>
            <a:gdLst/>
            <a:ahLst/>
            <a:rect l="l" t="t" r="r" b="b"/>
            <a:pathLst>
              <a:path w="1983" h="2647">
                <a:moveTo>
                  <a:pt x="0" y="0"/>
                </a:moveTo>
                <a:cubicBezTo>
                  <a:pt x="75" y="108"/>
                  <a:pt x="78" y="108"/>
                  <a:pt x="168" y="165"/>
                </a:cubicBezTo>
                <a:cubicBezTo>
                  <a:pt x="207" y="183"/>
                  <a:pt x="239" y="200"/>
                  <a:pt x="276" y="216"/>
                </a:cubicBezTo>
                <a:cubicBezTo>
                  <a:pt x="299" y="226"/>
                  <a:pt x="318" y="231"/>
                  <a:pt x="348" y="240"/>
                </a:cubicBezTo>
                <a:cubicBezTo>
                  <a:pt x="360" y="248"/>
                  <a:pt x="380" y="252"/>
                  <a:pt x="393" y="258"/>
                </a:cubicBezTo>
                <a:cubicBezTo>
                  <a:pt x="423" y="266"/>
                  <a:pt x="483" y="287"/>
                  <a:pt x="528" y="297"/>
                </a:cubicBezTo>
                <a:cubicBezTo>
                  <a:pt x="573" y="307"/>
                  <a:pt x="601" y="312"/>
                  <a:pt x="663" y="318"/>
                </a:cubicBezTo>
                <a:cubicBezTo>
                  <a:pt x="753" y="324"/>
                  <a:pt x="822" y="327"/>
                  <a:pt x="903" y="336"/>
                </a:cubicBezTo>
                <a:cubicBezTo>
                  <a:pt x="983" y="337"/>
                  <a:pt x="1062" y="333"/>
                  <a:pt x="1149" y="327"/>
                </a:cubicBezTo>
                <a:cubicBezTo>
                  <a:pt x="1236" y="321"/>
                  <a:pt x="1358" y="310"/>
                  <a:pt x="1428" y="300"/>
                </a:cubicBezTo>
                <a:cubicBezTo>
                  <a:pt x="1461" y="291"/>
                  <a:pt x="1542" y="279"/>
                  <a:pt x="1572" y="264"/>
                </a:cubicBezTo>
                <a:cubicBezTo>
                  <a:pt x="1590" y="258"/>
                  <a:pt x="1602" y="258"/>
                  <a:pt x="1620" y="252"/>
                </a:cubicBezTo>
                <a:cubicBezTo>
                  <a:pt x="1647" y="244"/>
                  <a:pt x="1671" y="234"/>
                  <a:pt x="1692" y="228"/>
                </a:cubicBezTo>
                <a:cubicBezTo>
                  <a:pt x="1725" y="217"/>
                  <a:pt x="1800" y="186"/>
                  <a:pt x="1830" y="168"/>
                </a:cubicBezTo>
                <a:cubicBezTo>
                  <a:pt x="1857" y="150"/>
                  <a:pt x="1896" y="123"/>
                  <a:pt x="1896" y="123"/>
                </a:cubicBezTo>
                <a:cubicBezTo>
                  <a:pt x="1904" y="111"/>
                  <a:pt x="1925" y="97"/>
                  <a:pt x="1935" y="87"/>
                </a:cubicBezTo>
                <a:cubicBezTo>
                  <a:pt x="1978" y="44"/>
                  <a:pt x="1968" y="94"/>
                  <a:pt x="1968" y="48"/>
                </a:cubicBezTo>
                <a:cubicBezTo>
                  <a:pt x="1972" y="812"/>
                  <a:pt x="1980" y="1576"/>
                  <a:pt x="1980" y="2340"/>
                </a:cubicBezTo>
                <a:cubicBezTo>
                  <a:pt x="1983" y="2364"/>
                  <a:pt x="1974" y="2361"/>
                  <a:pt x="1938" y="2391"/>
                </a:cubicBezTo>
                <a:cubicBezTo>
                  <a:pt x="1902" y="2430"/>
                  <a:pt x="1883" y="2429"/>
                  <a:pt x="1836" y="2460"/>
                </a:cubicBezTo>
                <a:cubicBezTo>
                  <a:pt x="1828" y="2472"/>
                  <a:pt x="1819" y="2474"/>
                  <a:pt x="1806" y="2481"/>
                </a:cubicBezTo>
                <a:cubicBezTo>
                  <a:pt x="1788" y="2491"/>
                  <a:pt x="1772" y="2503"/>
                  <a:pt x="1752" y="2508"/>
                </a:cubicBezTo>
                <a:cubicBezTo>
                  <a:pt x="1752" y="2508"/>
                  <a:pt x="1674" y="2544"/>
                  <a:pt x="1656" y="2550"/>
                </a:cubicBezTo>
                <a:cubicBezTo>
                  <a:pt x="1592" y="2567"/>
                  <a:pt x="1466" y="2602"/>
                  <a:pt x="1374" y="2616"/>
                </a:cubicBezTo>
                <a:cubicBezTo>
                  <a:pt x="1282" y="2630"/>
                  <a:pt x="1198" y="2632"/>
                  <a:pt x="1101" y="2634"/>
                </a:cubicBezTo>
                <a:cubicBezTo>
                  <a:pt x="959" y="2647"/>
                  <a:pt x="894" y="2638"/>
                  <a:pt x="789" y="2631"/>
                </a:cubicBezTo>
                <a:cubicBezTo>
                  <a:pt x="684" y="2624"/>
                  <a:pt x="554" y="2608"/>
                  <a:pt x="468" y="2592"/>
                </a:cubicBezTo>
                <a:cubicBezTo>
                  <a:pt x="398" y="2579"/>
                  <a:pt x="338" y="2555"/>
                  <a:pt x="270" y="2532"/>
                </a:cubicBezTo>
                <a:cubicBezTo>
                  <a:pt x="240" y="2511"/>
                  <a:pt x="219" y="2506"/>
                  <a:pt x="195" y="2490"/>
                </a:cubicBezTo>
                <a:cubicBezTo>
                  <a:pt x="183" y="2482"/>
                  <a:pt x="165" y="2475"/>
                  <a:pt x="165" y="2475"/>
                </a:cubicBezTo>
                <a:cubicBezTo>
                  <a:pt x="156" y="2468"/>
                  <a:pt x="152" y="2467"/>
                  <a:pt x="138" y="2457"/>
                </a:cubicBezTo>
                <a:cubicBezTo>
                  <a:pt x="124" y="2447"/>
                  <a:pt x="92" y="2426"/>
                  <a:pt x="78" y="2415"/>
                </a:cubicBezTo>
                <a:cubicBezTo>
                  <a:pt x="64" y="2404"/>
                  <a:pt x="63" y="2396"/>
                  <a:pt x="54" y="2388"/>
                </a:cubicBezTo>
                <a:cubicBezTo>
                  <a:pt x="42" y="2380"/>
                  <a:pt x="24" y="2364"/>
                  <a:pt x="24" y="2364"/>
                </a:cubicBezTo>
                <a:cubicBezTo>
                  <a:pt x="16" y="2352"/>
                  <a:pt x="0" y="2328"/>
                  <a:pt x="0" y="2328"/>
                </a:cubicBez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231436"/>
          <p:cNvSpPr/>
          <p:nvPr/>
        </p:nvSpPr>
        <p:spPr>
          <a:xfrm>
            <a:off x="4621680" y="2743200"/>
            <a:ext cx="1155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直接连接符 232449"/>
          <p:cNvSpPr/>
          <p:nvPr/>
        </p:nvSpPr>
        <p:spPr>
          <a:xfrm>
            <a:off x="586728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232450"/>
          <p:cNvSpPr/>
          <p:nvPr/>
        </p:nvSpPr>
        <p:spPr>
          <a:xfrm>
            <a:off x="274320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32451"/>
          <p:cNvGrpSpPr/>
          <p:nvPr/>
        </p:nvGrpSpPr>
        <p:grpSpPr>
          <a:xfrm>
            <a:off x="2743200" y="838080"/>
            <a:ext cx="3124080" cy="1239840"/>
            <a:chOff x="2743200" y="838080"/>
            <a:chExt cx="3124080" cy="1239840"/>
          </a:xfrm>
        </p:grpSpPr>
        <p:sp>
          <p:nvSpPr>
            <p:cNvPr id="322" name="椭圆 232452"/>
            <p:cNvSpPr/>
            <p:nvPr/>
          </p:nvSpPr>
          <p:spPr>
            <a:xfrm>
              <a:off x="2743200" y="91440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232453"/>
            <p:cNvSpPr/>
            <p:nvPr/>
          </p:nvSpPr>
          <p:spPr>
            <a:xfrm>
              <a:off x="3733920" y="8380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32454"/>
          <p:cNvGrpSpPr/>
          <p:nvPr/>
        </p:nvGrpSpPr>
        <p:grpSpPr>
          <a:xfrm>
            <a:off x="2743200" y="4572000"/>
            <a:ext cx="3123720" cy="1162800"/>
            <a:chOff x="2743200" y="4572000"/>
            <a:chExt cx="3123720" cy="1162800"/>
          </a:xfrm>
        </p:grpSpPr>
        <p:grpSp>
          <p:nvGrpSpPr>
            <p:cNvPr id="325" name="组合 232455"/>
            <p:cNvGrpSpPr/>
            <p:nvPr/>
          </p:nvGrpSpPr>
          <p:grpSpPr>
            <a:xfrm>
              <a:off x="2743200" y="4572000"/>
              <a:ext cx="3123720" cy="1162800"/>
              <a:chOff x="2743200" y="4572000"/>
              <a:chExt cx="3123720" cy="1162800"/>
            </a:xfrm>
          </p:grpSpPr>
          <p:sp>
            <p:nvSpPr>
              <p:cNvPr id="326" name="椭圆 232456"/>
              <p:cNvSpPr/>
              <p:nvPr/>
            </p:nvSpPr>
            <p:spPr>
              <a:xfrm>
                <a:off x="2743200" y="4572000"/>
                <a:ext cx="3123720" cy="1162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任意多边形 232457"/>
              <p:cNvSpPr/>
              <p:nvPr/>
            </p:nvSpPr>
            <p:spPr>
              <a:xfrm>
                <a:off x="2743200" y="5070600"/>
                <a:ext cx="3123720" cy="66420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0" y="36"/>
                    </a:lnTo>
                    <a:lnTo>
                      <a:pt x="12" y="60"/>
                    </a:lnTo>
                    <a:lnTo>
                      <a:pt x="36" y="90"/>
                    </a:lnTo>
                    <a:lnTo>
                      <a:pt x="51" y="96"/>
                    </a:lnTo>
                    <a:lnTo>
                      <a:pt x="99" y="123"/>
                    </a:lnTo>
                    <a:lnTo>
                      <a:pt x="174" y="150"/>
                    </a:lnTo>
                    <a:lnTo>
                      <a:pt x="312" y="177"/>
                    </a:lnTo>
                    <a:lnTo>
                      <a:pt x="408" y="186"/>
                    </a:lnTo>
                    <a:lnTo>
                      <a:pt x="513" y="192"/>
                    </a:lnTo>
                    <a:lnTo>
                      <a:pt x="615" y="189"/>
                    </a:lnTo>
                    <a:lnTo>
                      <a:pt x="714" y="183"/>
                    </a:lnTo>
                    <a:lnTo>
                      <a:pt x="768" y="174"/>
                    </a:lnTo>
                    <a:lnTo>
                      <a:pt x="888" y="147"/>
                    </a:lnTo>
                    <a:lnTo>
                      <a:pt x="975" y="114"/>
                    </a:lnTo>
                    <a:lnTo>
                      <a:pt x="1002" y="96"/>
                    </a:lnTo>
                    <a:lnTo>
                      <a:pt x="1044" y="60"/>
                    </a:lnTo>
                    <a:lnTo>
                      <a:pt x="1056" y="36"/>
                    </a:lnTo>
                    <a:lnTo>
                      <a:pt x="1056" y="1"/>
                    </a:lnTo>
                  </a:path>
                </a:pathLst>
              </a:custGeom>
              <a:solidFill>
                <a:srgbClr val="ffcc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文本框 232458"/>
            <p:cNvSpPr/>
            <p:nvPr/>
          </p:nvSpPr>
          <p:spPr>
            <a:xfrm>
              <a:off x="4419720" y="46688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232459"/>
          <p:cNvSpPr/>
          <p:nvPr/>
        </p:nvSpPr>
        <p:spPr>
          <a:xfrm>
            <a:off x="4621680" y="27432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232460"/>
          <p:cNvSpPr/>
          <p:nvPr/>
        </p:nvSpPr>
        <p:spPr>
          <a:xfrm>
            <a:off x="2743200" y="1447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232461"/>
          <p:cNvSpPr/>
          <p:nvPr/>
        </p:nvSpPr>
        <p:spPr>
          <a:xfrm>
            <a:off x="2743200" y="5181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232462"/>
          <p:cNvSpPr/>
          <p:nvPr/>
        </p:nvSpPr>
        <p:spPr>
          <a:xfrm>
            <a:off x="4214880" y="1400040"/>
            <a:ext cx="9504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18" y="6"/>
                </a:moveTo>
                <a:cubicBezTo>
                  <a:pt x="6" y="10"/>
                  <a:pt x="4" y="15"/>
                  <a:pt x="0" y="27"/>
                </a:cubicBezTo>
                <a:cubicBezTo>
                  <a:pt x="2" y="33"/>
                  <a:pt x="4" y="39"/>
                  <a:pt x="6" y="45"/>
                </a:cubicBezTo>
                <a:cubicBezTo>
                  <a:pt x="8" y="51"/>
                  <a:pt x="24" y="51"/>
                  <a:pt x="24" y="51"/>
                </a:cubicBezTo>
                <a:cubicBezTo>
                  <a:pt x="43" y="49"/>
                  <a:pt x="54" y="51"/>
                  <a:pt x="60" y="33"/>
                </a:cubicBezTo>
                <a:cubicBezTo>
                  <a:pt x="59" y="27"/>
                  <a:pt x="59" y="11"/>
                  <a:pt x="51" y="6"/>
                </a:cubicBezTo>
                <a:cubicBezTo>
                  <a:pt x="46" y="3"/>
                  <a:pt x="33" y="0"/>
                  <a:pt x="33" y="0"/>
                </a:cubicBezTo>
                <a:cubicBezTo>
                  <a:pt x="22" y="4"/>
                  <a:pt x="27" y="2"/>
                  <a:pt x="18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232463"/>
          <p:cNvSpPr/>
          <p:nvPr/>
        </p:nvSpPr>
        <p:spPr>
          <a:xfrm>
            <a:off x="4216320" y="5129280"/>
            <a:ext cx="108000" cy="85680"/>
          </a:xfrm>
          <a:custGeom>
            <a:avLst/>
            <a:gdLst/>
            <a:ahLst/>
            <a:rect l="l" t="t" r="r" b="b"/>
            <a:pathLst>
              <a:path w="68" h="54">
                <a:moveTo>
                  <a:pt x="14" y="6"/>
                </a:moveTo>
                <a:cubicBezTo>
                  <a:pt x="6" y="18"/>
                  <a:pt x="0" y="22"/>
                  <a:pt x="11" y="42"/>
                </a:cubicBezTo>
                <a:cubicBezTo>
                  <a:pt x="14" y="48"/>
                  <a:pt x="29" y="54"/>
                  <a:pt x="29" y="54"/>
                </a:cubicBezTo>
                <a:cubicBezTo>
                  <a:pt x="58" y="50"/>
                  <a:pt x="68" y="50"/>
                  <a:pt x="56" y="12"/>
                </a:cubicBezTo>
                <a:cubicBezTo>
                  <a:pt x="53" y="3"/>
                  <a:pt x="29" y="0"/>
                  <a:pt x="29" y="0"/>
                </a:cubicBezTo>
                <a:cubicBezTo>
                  <a:pt x="18" y="4"/>
                  <a:pt x="23" y="2"/>
                  <a:pt x="14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32464"/>
          <p:cNvSpPr/>
          <p:nvPr/>
        </p:nvSpPr>
        <p:spPr>
          <a:xfrm>
            <a:off x="4267080" y="14479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232465"/>
          <p:cNvGrpSpPr/>
          <p:nvPr/>
        </p:nvGrpSpPr>
        <p:grpSpPr>
          <a:xfrm>
            <a:off x="5867280" y="1447920"/>
            <a:ext cx="838440" cy="3733560"/>
            <a:chOff x="5867280" y="1447920"/>
            <a:chExt cx="838440" cy="3733560"/>
          </a:xfrm>
        </p:grpSpPr>
        <p:sp>
          <p:nvSpPr>
            <p:cNvPr id="336" name="直接连接符 232466"/>
            <p:cNvSpPr/>
            <p:nvPr/>
          </p:nvSpPr>
          <p:spPr>
            <a:xfrm>
              <a:off x="5867280" y="1447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232467"/>
            <p:cNvSpPr/>
            <p:nvPr/>
          </p:nvSpPr>
          <p:spPr>
            <a:xfrm>
              <a:off x="5867280" y="5181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232468"/>
          <p:cNvGrpSpPr/>
          <p:nvPr/>
        </p:nvGrpSpPr>
        <p:grpSpPr>
          <a:xfrm>
            <a:off x="6019920" y="1447560"/>
            <a:ext cx="609480" cy="3733920"/>
            <a:chOff x="6019920" y="1447560"/>
            <a:chExt cx="609480" cy="3733920"/>
          </a:xfrm>
        </p:grpSpPr>
        <p:sp>
          <p:nvSpPr>
            <p:cNvPr id="339" name="文本框 232469"/>
            <p:cNvSpPr/>
            <p:nvPr/>
          </p:nvSpPr>
          <p:spPr>
            <a:xfrm>
              <a:off x="6019920" y="2895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232470"/>
            <p:cNvSpPr/>
            <p:nvPr/>
          </p:nvSpPr>
          <p:spPr>
            <a:xfrm flipV="1">
              <a:off x="6324480" y="144756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232471"/>
            <p:cNvSpPr/>
            <p:nvPr/>
          </p:nvSpPr>
          <p:spPr>
            <a:xfrm>
              <a:off x="6324480" y="3505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文本框 232472"/>
          <p:cNvSpPr/>
          <p:nvPr/>
        </p:nvSpPr>
        <p:spPr>
          <a:xfrm>
            <a:off x="38098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32473"/>
          <p:cNvSpPr/>
          <p:nvPr/>
        </p:nvSpPr>
        <p:spPr>
          <a:xfrm>
            <a:off x="380988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233473"/>
          <p:cNvSpPr/>
          <p:nvPr/>
        </p:nvSpPr>
        <p:spPr>
          <a:xfrm>
            <a:off x="2658960" y="324000"/>
            <a:ext cx="2880000" cy="1223640"/>
          </a:xfrm>
          <a:prstGeom prst="ellipse">
            <a:avLst/>
          </a:prstGeom>
          <a:solidFill>
            <a:srgbClr val="bbe0e3">
              <a:alpha val="63000"/>
            </a:srgbClr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233474"/>
          <p:cNvSpPr/>
          <p:nvPr/>
        </p:nvSpPr>
        <p:spPr>
          <a:xfrm>
            <a:off x="2658960" y="3421080"/>
            <a:ext cx="2880000" cy="1224000"/>
          </a:xfrm>
          <a:prstGeom prst="ellipse">
            <a:avLst/>
          </a:prstGeom>
          <a:solidFill>
            <a:srgbClr val="bbe0e3">
              <a:alpha val="63000"/>
            </a:srgbClr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233475"/>
          <p:cNvSpPr/>
          <p:nvPr/>
        </p:nvSpPr>
        <p:spPr>
          <a:xfrm>
            <a:off x="2658960" y="324000"/>
            <a:ext cx="2880000" cy="1223640"/>
          </a:xfrm>
          <a:prstGeom prst="ellipse">
            <a:avLst/>
          </a:prstGeom>
          <a:solidFill>
            <a:srgbClr val="ffff00">
              <a:alpha val="63000"/>
            </a:srgbClr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233476"/>
          <p:cNvSpPr/>
          <p:nvPr/>
        </p:nvSpPr>
        <p:spPr>
          <a:xfrm>
            <a:off x="2666880" y="3429000"/>
            <a:ext cx="2880000" cy="1224000"/>
          </a:xfrm>
          <a:prstGeom prst="ellipse">
            <a:avLst/>
          </a:prstGeom>
          <a:solidFill>
            <a:srgbClr val="ffff00">
              <a:alpha val="63000"/>
            </a:srgbClr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233477"/>
          <p:cNvSpPr/>
          <p:nvPr/>
        </p:nvSpPr>
        <p:spPr>
          <a:xfrm>
            <a:off x="5538960" y="971640"/>
            <a:ext cx="0" cy="3097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233478"/>
          <p:cNvSpPr/>
          <p:nvPr/>
        </p:nvSpPr>
        <p:spPr>
          <a:xfrm>
            <a:off x="2658960" y="971640"/>
            <a:ext cx="0" cy="3097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33479"/>
          <p:cNvSpPr/>
          <p:nvPr/>
        </p:nvSpPr>
        <p:spPr>
          <a:xfrm>
            <a:off x="2658960" y="97164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233480"/>
          <p:cNvSpPr/>
          <p:nvPr/>
        </p:nvSpPr>
        <p:spPr>
          <a:xfrm>
            <a:off x="2658960" y="399564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33481"/>
          <p:cNvSpPr/>
          <p:nvPr/>
        </p:nvSpPr>
        <p:spPr>
          <a:xfrm>
            <a:off x="4098960" y="971640"/>
            <a:ext cx="0" cy="302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233482"/>
          <p:cNvSpPr/>
          <p:nvPr/>
        </p:nvSpPr>
        <p:spPr>
          <a:xfrm>
            <a:off x="3551400" y="395280"/>
            <a:ext cx="105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Arial"/>
                <a:ea typeface="楷体_GB2312"/>
              </a:rPr>
              <a:t>底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233483"/>
          <p:cNvSpPr/>
          <p:nvPr/>
        </p:nvSpPr>
        <p:spPr>
          <a:xfrm>
            <a:off x="3594240" y="3922560"/>
            <a:ext cx="105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Arial"/>
                <a:ea typeface="楷体_GB2312"/>
              </a:rPr>
              <a:t>底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233484"/>
          <p:cNvSpPr/>
          <p:nvPr/>
        </p:nvSpPr>
        <p:spPr>
          <a:xfrm>
            <a:off x="4100400" y="865080"/>
            <a:ext cx="44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233485"/>
          <p:cNvSpPr/>
          <p:nvPr/>
        </p:nvSpPr>
        <p:spPr>
          <a:xfrm>
            <a:off x="4084560" y="3419640"/>
            <a:ext cx="44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233486"/>
          <p:cNvSpPr/>
          <p:nvPr/>
        </p:nvSpPr>
        <p:spPr>
          <a:xfrm>
            <a:off x="5538960" y="971640"/>
            <a:ext cx="6476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33487"/>
          <p:cNvSpPr/>
          <p:nvPr/>
        </p:nvSpPr>
        <p:spPr>
          <a:xfrm>
            <a:off x="5538960" y="3995640"/>
            <a:ext cx="6476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233488"/>
          <p:cNvSpPr/>
          <p:nvPr/>
        </p:nvSpPr>
        <p:spPr>
          <a:xfrm flipV="1">
            <a:off x="5970600" y="971640"/>
            <a:ext cx="0" cy="12240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233489"/>
          <p:cNvSpPr/>
          <p:nvPr/>
        </p:nvSpPr>
        <p:spPr>
          <a:xfrm>
            <a:off x="5970600" y="2843280"/>
            <a:ext cx="0" cy="11523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33490"/>
          <p:cNvSpPr/>
          <p:nvPr/>
        </p:nvSpPr>
        <p:spPr>
          <a:xfrm>
            <a:off x="5610240" y="2136600"/>
            <a:ext cx="617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Arial"/>
                <a:ea typeface="楷体_GB2312"/>
              </a:rPr>
              <a:t>高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233491"/>
          <p:cNvSpPr/>
          <p:nvPr/>
        </p:nvSpPr>
        <p:spPr>
          <a:xfrm>
            <a:off x="2801880" y="2266920"/>
            <a:ext cx="105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00"/>
                </a:solidFill>
                <a:latin typeface="Arial"/>
                <a:ea typeface="楷体_GB2312"/>
              </a:rPr>
              <a:t>侧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233492"/>
          <p:cNvSpPr/>
          <p:nvPr/>
        </p:nvSpPr>
        <p:spPr>
          <a:xfrm>
            <a:off x="304920" y="4641840"/>
            <a:ext cx="8496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的上、下两个面叫做圆柱的（          ），围成圆柱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曲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叫做圆柱的（         ），圆柱两个底面之间的距离叫做圆柱的（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233493"/>
          <p:cNvSpPr/>
          <p:nvPr/>
        </p:nvSpPr>
        <p:spPr>
          <a:xfrm>
            <a:off x="4876920" y="48769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233494"/>
          <p:cNvSpPr/>
          <p:nvPr/>
        </p:nvSpPr>
        <p:spPr>
          <a:xfrm>
            <a:off x="2133720" y="54864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33495"/>
          <p:cNvSpPr/>
          <p:nvPr/>
        </p:nvSpPr>
        <p:spPr>
          <a:xfrm>
            <a:off x="609480" y="60958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233496" descr="dglxasset[2]"/>
          <p:cNvPicPr/>
          <p:nvPr/>
        </p:nvPicPr>
        <p:blipFill>
          <a:blip r:embed="rId1"/>
          <a:stretch/>
        </p:blipFill>
        <p:spPr>
          <a:xfrm>
            <a:off x="7691400" y="-152280"/>
            <a:ext cx="1452600" cy="2158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文本框 234497"/>
          <p:cNvSpPr/>
          <p:nvPr/>
        </p:nvSpPr>
        <p:spPr>
          <a:xfrm>
            <a:off x="533520" y="19810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圆柱的上、下两个底面是什么图形？它们的大小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用手摸一摸圆柱的侧面，你发现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圆柱有几条高？用直尺量一量圆柱的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发现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34498"/>
          <p:cNvSpPr/>
          <p:nvPr/>
        </p:nvSpPr>
        <p:spPr>
          <a:xfrm>
            <a:off x="2601000" y="13716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仔细观察、思考并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直接连接符 235521"/>
          <p:cNvSpPr/>
          <p:nvPr/>
        </p:nvSpPr>
        <p:spPr>
          <a:xfrm>
            <a:off x="586728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235522"/>
          <p:cNvSpPr/>
          <p:nvPr/>
        </p:nvSpPr>
        <p:spPr>
          <a:xfrm>
            <a:off x="274320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35523"/>
          <p:cNvGrpSpPr/>
          <p:nvPr/>
        </p:nvGrpSpPr>
        <p:grpSpPr>
          <a:xfrm>
            <a:off x="2743200" y="838080"/>
            <a:ext cx="3124080" cy="1239840"/>
            <a:chOff x="2743200" y="838080"/>
            <a:chExt cx="3124080" cy="1239840"/>
          </a:xfrm>
        </p:grpSpPr>
        <p:sp>
          <p:nvSpPr>
            <p:cNvPr id="373" name="椭圆 235524"/>
            <p:cNvSpPr/>
            <p:nvPr/>
          </p:nvSpPr>
          <p:spPr>
            <a:xfrm>
              <a:off x="2743200" y="91440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235525"/>
            <p:cNvSpPr/>
            <p:nvPr/>
          </p:nvSpPr>
          <p:spPr>
            <a:xfrm>
              <a:off x="3733920" y="8380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35526"/>
          <p:cNvGrpSpPr/>
          <p:nvPr/>
        </p:nvGrpSpPr>
        <p:grpSpPr>
          <a:xfrm>
            <a:off x="2743200" y="4572000"/>
            <a:ext cx="3123720" cy="1162800"/>
            <a:chOff x="2743200" y="4572000"/>
            <a:chExt cx="3123720" cy="1162800"/>
          </a:xfrm>
        </p:grpSpPr>
        <p:grpSp>
          <p:nvGrpSpPr>
            <p:cNvPr id="376" name="组合 235527"/>
            <p:cNvGrpSpPr/>
            <p:nvPr/>
          </p:nvGrpSpPr>
          <p:grpSpPr>
            <a:xfrm>
              <a:off x="2743200" y="4572000"/>
              <a:ext cx="3123720" cy="1162800"/>
              <a:chOff x="2743200" y="4572000"/>
              <a:chExt cx="3123720" cy="1162800"/>
            </a:xfrm>
          </p:grpSpPr>
          <p:sp>
            <p:nvSpPr>
              <p:cNvPr id="377" name="椭圆 235528"/>
              <p:cNvSpPr/>
              <p:nvPr/>
            </p:nvSpPr>
            <p:spPr>
              <a:xfrm>
                <a:off x="2743200" y="4572000"/>
                <a:ext cx="3123720" cy="1162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任意多边形 235529"/>
              <p:cNvSpPr/>
              <p:nvPr/>
            </p:nvSpPr>
            <p:spPr>
              <a:xfrm>
                <a:off x="2743200" y="5070600"/>
                <a:ext cx="3123720" cy="66420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0" y="36"/>
                    </a:lnTo>
                    <a:lnTo>
                      <a:pt x="12" y="60"/>
                    </a:lnTo>
                    <a:lnTo>
                      <a:pt x="36" y="90"/>
                    </a:lnTo>
                    <a:lnTo>
                      <a:pt x="51" y="96"/>
                    </a:lnTo>
                    <a:lnTo>
                      <a:pt x="99" y="123"/>
                    </a:lnTo>
                    <a:lnTo>
                      <a:pt x="174" y="150"/>
                    </a:lnTo>
                    <a:lnTo>
                      <a:pt x="312" y="177"/>
                    </a:lnTo>
                    <a:lnTo>
                      <a:pt x="408" y="186"/>
                    </a:lnTo>
                    <a:lnTo>
                      <a:pt x="513" y="192"/>
                    </a:lnTo>
                    <a:lnTo>
                      <a:pt x="615" y="189"/>
                    </a:lnTo>
                    <a:lnTo>
                      <a:pt x="714" y="183"/>
                    </a:lnTo>
                    <a:lnTo>
                      <a:pt x="768" y="174"/>
                    </a:lnTo>
                    <a:lnTo>
                      <a:pt x="888" y="147"/>
                    </a:lnTo>
                    <a:lnTo>
                      <a:pt x="975" y="114"/>
                    </a:lnTo>
                    <a:lnTo>
                      <a:pt x="1002" y="96"/>
                    </a:lnTo>
                    <a:lnTo>
                      <a:pt x="1044" y="60"/>
                    </a:lnTo>
                    <a:lnTo>
                      <a:pt x="1056" y="36"/>
                    </a:lnTo>
                    <a:lnTo>
                      <a:pt x="1056" y="1"/>
                    </a:lnTo>
                  </a:path>
                </a:pathLst>
              </a:custGeom>
              <a:solidFill>
                <a:srgbClr val="ffcc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文本框 235530"/>
            <p:cNvSpPr/>
            <p:nvPr/>
          </p:nvSpPr>
          <p:spPr>
            <a:xfrm>
              <a:off x="4419720" y="46688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文本框 235531"/>
          <p:cNvSpPr/>
          <p:nvPr/>
        </p:nvSpPr>
        <p:spPr>
          <a:xfrm>
            <a:off x="4621680" y="27432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235532"/>
          <p:cNvSpPr/>
          <p:nvPr/>
        </p:nvSpPr>
        <p:spPr>
          <a:xfrm>
            <a:off x="2743200" y="1447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接连接符 235533"/>
          <p:cNvSpPr/>
          <p:nvPr/>
        </p:nvSpPr>
        <p:spPr>
          <a:xfrm>
            <a:off x="2743200" y="5181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任意多边形 235534"/>
          <p:cNvSpPr/>
          <p:nvPr/>
        </p:nvSpPr>
        <p:spPr>
          <a:xfrm>
            <a:off x="4214880" y="1400040"/>
            <a:ext cx="9504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18" y="6"/>
                </a:moveTo>
                <a:cubicBezTo>
                  <a:pt x="6" y="10"/>
                  <a:pt x="4" y="15"/>
                  <a:pt x="0" y="27"/>
                </a:cubicBezTo>
                <a:cubicBezTo>
                  <a:pt x="2" y="33"/>
                  <a:pt x="4" y="39"/>
                  <a:pt x="6" y="45"/>
                </a:cubicBezTo>
                <a:cubicBezTo>
                  <a:pt x="8" y="51"/>
                  <a:pt x="24" y="51"/>
                  <a:pt x="24" y="51"/>
                </a:cubicBezTo>
                <a:cubicBezTo>
                  <a:pt x="43" y="49"/>
                  <a:pt x="54" y="51"/>
                  <a:pt x="60" y="33"/>
                </a:cubicBezTo>
                <a:cubicBezTo>
                  <a:pt x="59" y="27"/>
                  <a:pt x="59" y="11"/>
                  <a:pt x="51" y="6"/>
                </a:cubicBezTo>
                <a:cubicBezTo>
                  <a:pt x="46" y="3"/>
                  <a:pt x="33" y="0"/>
                  <a:pt x="33" y="0"/>
                </a:cubicBezTo>
                <a:cubicBezTo>
                  <a:pt x="22" y="4"/>
                  <a:pt x="27" y="2"/>
                  <a:pt x="18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任意多边形 235535"/>
          <p:cNvSpPr/>
          <p:nvPr/>
        </p:nvSpPr>
        <p:spPr>
          <a:xfrm>
            <a:off x="4216320" y="5129280"/>
            <a:ext cx="108000" cy="85680"/>
          </a:xfrm>
          <a:custGeom>
            <a:avLst/>
            <a:gdLst/>
            <a:ahLst/>
            <a:rect l="l" t="t" r="r" b="b"/>
            <a:pathLst>
              <a:path w="68" h="54">
                <a:moveTo>
                  <a:pt x="14" y="6"/>
                </a:moveTo>
                <a:cubicBezTo>
                  <a:pt x="6" y="18"/>
                  <a:pt x="0" y="22"/>
                  <a:pt x="11" y="42"/>
                </a:cubicBezTo>
                <a:cubicBezTo>
                  <a:pt x="14" y="48"/>
                  <a:pt x="29" y="54"/>
                  <a:pt x="29" y="54"/>
                </a:cubicBezTo>
                <a:cubicBezTo>
                  <a:pt x="58" y="50"/>
                  <a:pt x="68" y="50"/>
                  <a:pt x="56" y="12"/>
                </a:cubicBezTo>
                <a:cubicBezTo>
                  <a:pt x="53" y="3"/>
                  <a:pt x="29" y="0"/>
                  <a:pt x="29" y="0"/>
                </a:cubicBezTo>
                <a:cubicBezTo>
                  <a:pt x="18" y="4"/>
                  <a:pt x="23" y="2"/>
                  <a:pt x="14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235536"/>
          <p:cNvSpPr/>
          <p:nvPr/>
        </p:nvSpPr>
        <p:spPr>
          <a:xfrm>
            <a:off x="4267080" y="14479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组合 235537"/>
          <p:cNvGrpSpPr/>
          <p:nvPr/>
        </p:nvGrpSpPr>
        <p:grpSpPr>
          <a:xfrm>
            <a:off x="5867280" y="1447920"/>
            <a:ext cx="838440" cy="3733560"/>
            <a:chOff x="5867280" y="1447920"/>
            <a:chExt cx="838440" cy="3733560"/>
          </a:xfrm>
        </p:grpSpPr>
        <p:sp>
          <p:nvSpPr>
            <p:cNvPr id="387" name="直接连接符 235538"/>
            <p:cNvSpPr/>
            <p:nvPr/>
          </p:nvSpPr>
          <p:spPr>
            <a:xfrm>
              <a:off x="5867280" y="1447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直接连接符 235539"/>
            <p:cNvSpPr/>
            <p:nvPr/>
          </p:nvSpPr>
          <p:spPr>
            <a:xfrm>
              <a:off x="5867280" y="5181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235540"/>
          <p:cNvGrpSpPr/>
          <p:nvPr/>
        </p:nvGrpSpPr>
        <p:grpSpPr>
          <a:xfrm>
            <a:off x="6019920" y="1447560"/>
            <a:ext cx="609480" cy="3733920"/>
            <a:chOff x="6019920" y="1447560"/>
            <a:chExt cx="609480" cy="3733920"/>
          </a:xfrm>
        </p:grpSpPr>
        <p:sp>
          <p:nvSpPr>
            <p:cNvPr id="390" name="文本框 235541"/>
            <p:cNvSpPr/>
            <p:nvPr/>
          </p:nvSpPr>
          <p:spPr>
            <a:xfrm>
              <a:off x="6019920" y="2895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235542"/>
            <p:cNvSpPr/>
            <p:nvPr/>
          </p:nvSpPr>
          <p:spPr>
            <a:xfrm flipV="1">
              <a:off x="6324480" y="144756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235543"/>
            <p:cNvSpPr/>
            <p:nvPr/>
          </p:nvSpPr>
          <p:spPr>
            <a:xfrm>
              <a:off x="6324480" y="3505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文本框 235544"/>
          <p:cNvSpPr/>
          <p:nvPr/>
        </p:nvSpPr>
        <p:spPr>
          <a:xfrm>
            <a:off x="38098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235545"/>
          <p:cNvSpPr/>
          <p:nvPr/>
        </p:nvSpPr>
        <p:spPr>
          <a:xfrm>
            <a:off x="380988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35546"/>
          <p:cNvSpPr/>
          <p:nvPr/>
        </p:nvSpPr>
        <p:spPr>
          <a:xfrm>
            <a:off x="4419720" y="1447920"/>
            <a:ext cx="0" cy="373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235547"/>
          <p:cNvSpPr/>
          <p:nvPr/>
        </p:nvSpPr>
        <p:spPr>
          <a:xfrm>
            <a:off x="5562720" y="1828800"/>
            <a:ext cx="0" cy="36576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235548"/>
          <p:cNvSpPr/>
          <p:nvPr/>
        </p:nvSpPr>
        <p:spPr>
          <a:xfrm>
            <a:off x="3276720" y="1905120"/>
            <a:ext cx="0" cy="3733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直接连接符 236545"/>
          <p:cNvSpPr/>
          <p:nvPr/>
        </p:nvSpPr>
        <p:spPr>
          <a:xfrm>
            <a:off x="586728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236546"/>
          <p:cNvSpPr/>
          <p:nvPr/>
        </p:nvSpPr>
        <p:spPr>
          <a:xfrm>
            <a:off x="274320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组合 236547"/>
          <p:cNvGrpSpPr/>
          <p:nvPr/>
        </p:nvGrpSpPr>
        <p:grpSpPr>
          <a:xfrm>
            <a:off x="2743200" y="838080"/>
            <a:ext cx="3124080" cy="1239840"/>
            <a:chOff x="2743200" y="838080"/>
            <a:chExt cx="3124080" cy="1239840"/>
          </a:xfrm>
        </p:grpSpPr>
        <p:sp>
          <p:nvSpPr>
            <p:cNvPr id="401" name="椭圆 236548"/>
            <p:cNvSpPr/>
            <p:nvPr/>
          </p:nvSpPr>
          <p:spPr>
            <a:xfrm>
              <a:off x="2743200" y="91440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236549"/>
            <p:cNvSpPr/>
            <p:nvPr/>
          </p:nvSpPr>
          <p:spPr>
            <a:xfrm>
              <a:off x="3733920" y="8380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236550"/>
          <p:cNvGrpSpPr/>
          <p:nvPr/>
        </p:nvGrpSpPr>
        <p:grpSpPr>
          <a:xfrm>
            <a:off x="2743200" y="4572000"/>
            <a:ext cx="3123720" cy="1162800"/>
            <a:chOff x="2743200" y="4572000"/>
            <a:chExt cx="3123720" cy="1162800"/>
          </a:xfrm>
        </p:grpSpPr>
        <p:grpSp>
          <p:nvGrpSpPr>
            <p:cNvPr id="404" name="组合 236551"/>
            <p:cNvGrpSpPr/>
            <p:nvPr/>
          </p:nvGrpSpPr>
          <p:grpSpPr>
            <a:xfrm>
              <a:off x="2743200" y="4572000"/>
              <a:ext cx="3123720" cy="1162800"/>
              <a:chOff x="2743200" y="4572000"/>
              <a:chExt cx="3123720" cy="1162800"/>
            </a:xfrm>
          </p:grpSpPr>
          <p:sp>
            <p:nvSpPr>
              <p:cNvPr id="405" name="椭圆 236552"/>
              <p:cNvSpPr/>
              <p:nvPr/>
            </p:nvSpPr>
            <p:spPr>
              <a:xfrm>
                <a:off x="2743200" y="4572000"/>
                <a:ext cx="3123720" cy="1162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236553"/>
              <p:cNvSpPr/>
              <p:nvPr/>
            </p:nvSpPr>
            <p:spPr>
              <a:xfrm>
                <a:off x="2743200" y="5070600"/>
                <a:ext cx="3123720" cy="66420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0" y="36"/>
                    </a:lnTo>
                    <a:lnTo>
                      <a:pt x="12" y="60"/>
                    </a:lnTo>
                    <a:lnTo>
                      <a:pt x="36" y="90"/>
                    </a:lnTo>
                    <a:lnTo>
                      <a:pt x="51" y="96"/>
                    </a:lnTo>
                    <a:lnTo>
                      <a:pt x="99" y="123"/>
                    </a:lnTo>
                    <a:lnTo>
                      <a:pt x="174" y="150"/>
                    </a:lnTo>
                    <a:lnTo>
                      <a:pt x="312" y="177"/>
                    </a:lnTo>
                    <a:lnTo>
                      <a:pt x="408" y="186"/>
                    </a:lnTo>
                    <a:lnTo>
                      <a:pt x="513" y="192"/>
                    </a:lnTo>
                    <a:lnTo>
                      <a:pt x="615" y="189"/>
                    </a:lnTo>
                    <a:lnTo>
                      <a:pt x="714" y="183"/>
                    </a:lnTo>
                    <a:lnTo>
                      <a:pt x="768" y="174"/>
                    </a:lnTo>
                    <a:lnTo>
                      <a:pt x="888" y="147"/>
                    </a:lnTo>
                    <a:lnTo>
                      <a:pt x="975" y="114"/>
                    </a:lnTo>
                    <a:lnTo>
                      <a:pt x="1002" y="96"/>
                    </a:lnTo>
                    <a:lnTo>
                      <a:pt x="1044" y="60"/>
                    </a:lnTo>
                    <a:lnTo>
                      <a:pt x="1056" y="36"/>
                    </a:lnTo>
                    <a:lnTo>
                      <a:pt x="1056" y="1"/>
                    </a:lnTo>
                  </a:path>
                </a:pathLst>
              </a:custGeom>
              <a:solidFill>
                <a:srgbClr val="ffcc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文本框 236554"/>
            <p:cNvSpPr/>
            <p:nvPr/>
          </p:nvSpPr>
          <p:spPr>
            <a:xfrm>
              <a:off x="4419720" y="46688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文本框 236555"/>
          <p:cNvSpPr/>
          <p:nvPr/>
        </p:nvSpPr>
        <p:spPr>
          <a:xfrm>
            <a:off x="4621680" y="27432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236556"/>
          <p:cNvSpPr/>
          <p:nvPr/>
        </p:nvSpPr>
        <p:spPr>
          <a:xfrm>
            <a:off x="2743200" y="1447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236557"/>
          <p:cNvSpPr/>
          <p:nvPr/>
        </p:nvSpPr>
        <p:spPr>
          <a:xfrm>
            <a:off x="2743200" y="5181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任意多边形 236558"/>
          <p:cNvSpPr/>
          <p:nvPr/>
        </p:nvSpPr>
        <p:spPr>
          <a:xfrm>
            <a:off x="4214880" y="1400040"/>
            <a:ext cx="9504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18" y="6"/>
                </a:moveTo>
                <a:cubicBezTo>
                  <a:pt x="6" y="10"/>
                  <a:pt x="4" y="15"/>
                  <a:pt x="0" y="27"/>
                </a:cubicBezTo>
                <a:cubicBezTo>
                  <a:pt x="2" y="33"/>
                  <a:pt x="4" y="39"/>
                  <a:pt x="6" y="45"/>
                </a:cubicBezTo>
                <a:cubicBezTo>
                  <a:pt x="8" y="51"/>
                  <a:pt x="24" y="51"/>
                  <a:pt x="24" y="51"/>
                </a:cubicBezTo>
                <a:cubicBezTo>
                  <a:pt x="43" y="49"/>
                  <a:pt x="54" y="51"/>
                  <a:pt x="60" y="33"/>
                </a:cubicBezTo>
                <a:cubicBezTo>
                  <a:pt x="59" y="27"/>
                  <a:pt x="59" y="11"/>
                  <a:pt x="51" y="6"/>
                </a:cubicBezTo>
                <a:cubicBezTo>
                  <a:pt x="46" y="3"/>
                  <a:pt x="33" y="0"/>
                  <a:pt x="33" y="0"/>
                </a:cubicBezTo>
                <a:cubicBezTo>
                  <a:pt x="22" y="4"/>
                  <a:pt x="27" y="2"/>
                  <a:pt x="18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任意多边形 236559"/>
          <p:cNvSpPr/>
          <p:nvPr/>
        </p:nvSpPr>
        <p:spPr>
          <a:xfrm>
            <a:off x="4216320" y="5129280"/>
            <a:ext cx="108000" cy="85680"/>
          </a:xfrm>
          <a:custGeom>
            <a:avLst/>
            <a:gdLst/>
            <a:ahLst/>
            <a:rect l="l" t="t" r="r" b="b"/>
            <a:pathLst>
              <a:path w="68" h="54">
                <a:moveTo>
                  <a:pt x="14" y="6"/>
                </a:moveTo>
                <a:cubicBezTo>
                  <a:pt x="6" y="18"/>
                  <a:pt x="0" y="22"/>
                  <a:pt x="11" y="42"/>
                </a:cubicBezTo>
                <a:cubicBezTo>
                  <a:pt x="14" y="48"/>
                  <a:pt x="29" y="54"/>
                  <a:pt x="29" y="54"/>
                </a:cubicBezTo>
                <a:cubicBezTo>
                  <a:pt x="58" y="50"/>
                  <a:pt x="68" y="50"/>
                  <a:pt x="56" y="12"/>
                </a:cubicBezTo>
                <a:cubicBezTo>
                  <a:pt x="53" y="3"/>
                  <a:pt x="29" y="0"/>
                  <a:pt x="29" y="0"/>
                </a:cubicBezTo>
                <a:cubicBezTo>
                  <a:pt x="18" y="4"/>
                  <a:pt x="23" y="2"/>
                  <a:pt x="14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36560"/>
          <p:cNvSpPr/>
          <p:nvPr/>
        </p:nvSpPr>
        <p:spPr>
          <a:xfrm>
            <a:off x="4267080" y="14479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236561"/>
          <p:cNvGrpSpPr/>
          <p:nvPr/>
        </p:nvGrpSpPr>
        <p:grpSpPr>
          <a:xfrm>
            <a:off x="5867280" y="1447920"/>
            <a:ext cx="838440" cy="3733560"/>
            <a:chOff x="5867280" y="1447920"/>
            <a:chExt cx="838440" cy="3733560"/>
          </a:xfrm>
        </p:grpSpPr>
        <p:sp>
          <p:nvSpPr>
            <p:cNvPr id="415" name="直接连接符 236562"/>
            <p:cNvSpPr/>
            <p:nvPr/>
          </p:nvSpPr>
          <p:spPr>
            <a:xfrm>
              <a:off x="5867280" y="1447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236563"/>
            <p:cNvSpPr/>
            <p:nvPr/>
          </p:nvSpPr>
          <p:spPr>
            <a:xfrm>
              <a:off x="5867280" y="5181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236564"/>
          <p:cNvGrpSpPr/>
          <p:nvPr/>
        </p:nvGrpSpPr>
        <p:grpSpPr>
          <a:xfrm>
            <a:off x="6019920" y="1447560"/>
            <a:ext cx="609480" cy="3733920"/>
            <a:chOff x="6019920" y="1447560"/>
            <a:chExt cx="609480" cy="3733920"/>
          </a:xfrm>
        </p:grpSpPr>
        <p:sp>
          <p:nvSpPr>
            <p:cNvPr id="418" name="文本框 236565"/>
            <p:cNvSpPr/>
            <p:nvPr/>
          </p:nvSpPr>
          <p:spPr>
            <a:xfrm>
              <a:off x="6019920" y="2895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236566"/>
            <p:cNvSpPr/>
            <p:nvPr/>
          </p:nvSpPr>
          <p:spPr>
            <a:xfrm flipV="1">
              <a:off x="6324480" y="144756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直接连接符 236567"/>
            <p:cNvSpPr/>
            <p:nvPr/>
          </p:nvSpPr>
          <p:spPr>
            <a:xfrm>
              <a:off x="6324480" y="3505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文本框 236568"/>
          <p:cNvSpPr/>
          <p:nvPr/>
        </p:nvSpPr>
        <p:spPr>
          <a:xfrm>
            <a:off x="38098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36569"/>
          <p:cNvSpPr/>
          <p:nvPr/>
        </p:nvSpPr>
        <p:spPr>
          <a:xfrm>
            <a:off x="380988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236570"/>
          <p:cNvSpPr/>
          <p:nvPr/>
        </p:nvSpPr>
        <p:spPr>
          <a:xfrm>
            <a:off x="4800600" y="1447920"/>
            <a:ext cx="0" cy="373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236571"/>
          <p:cNvSpPr/>
          <p:nvPr/>
        </p:nvSpPr>
        <p:spPr>
          <a:xfrm>
            <a:off x="5791320" y="1676520"/>
            <a:ext cx="0" cy="36576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236572"/>
          <p:cNvSpPr/>
          <p:nvPr/>
        </p:nvSpPr>
        <p:spPr>
          <a:xfrm>
            <a:off x="3657600" y="2057400"/>
            <a:ext cx="0" cy="3657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直接连接符 237569"/>
          <p:cNvSpPr/>
          <p:nvPr/>
        </p:nvSpPr>
        <p:spPr>
          <a:xfrm>
            <a:off x="586728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237570"/>
          <p:cNvSpPr/>
          <p:nvPr/>
        </p:nvSpPr>
        <p:spPr>
          <a:xfrm>
            <a:off x="274320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237571"/>
          <p:cNvGrpSpPr/>
          <p:nvPr/>
        </p:nvGrpSpPr>
        <p:grpSpPr>
          <a:xfrm>
            <a:off x="2743200" y="838080"/>
            <a:ext cx="3124080" cy="1239840"/>
            <a:chOff x="2743200" y="838080"/>
            <a:chExt cx="3124080" cy="1239840"/>
          </a:xfrm>
        </p:grpSpPr>
        <p:sp>
          <p:nvSpPr>
            <p:cNvPr id="429" name="椭圆 237572"/>
            <p:cNvSpPr/>
            <p:nvPr/>
          </p:nvSpPr>
          <p:spPr>
            <a:xfrm>
              <a:off x="2743200" y="91440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文本框 237573"/>
            <p:cNvSpPr/>
            <p:nvPr/>
          </p:nvSpPr>
          <p:spPr>
            <a:xfrm>
              <a:off x="3733920" y="8380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237574"/>
          <p:cNvGrpSpPr/>
          <p:nvPr/>
        </p:nvGrpSpPr>
        <p:grpSpPr>
          <a:xfrm>
            <a:off x="2743200" y="4572000"/>
            <a:ext cx="3123720" cy="1162800"/>
            <a:chOff x="2743200" y="4572000"/>
            <a:chExt cx="3123720" cy="1162800"/>
          </a:xfrm>
        </p:grpSpPr>
        <p:grpSp>
          <p:nvGrpSpPr>
            <p:cNvPr id="432" name="组合 237575"/>
            <p:cNvGrpSpPr/>
            <p:nvPr/>
          </p:nvGrpSpPr>
          <p:grpSpPr>
            <a:xfrm>
              <a:off x="2743200" y="4572000"/>
              <a:ext cx="3123720" cy="1162800"/>
              <a:chOff x="2743200" y="4572000"/>
              <a:chExt cx="3123720" cy="1162800"/>
            </a:xfrm>
          </p:grpSpPr>
          <p:sp>
            <p:nvSpPr>
              <p:cNvPr id="433" name="椭圆 237576"/>
              <p:cNvSpPr/>
              <p:nvPr/>
            </p:nvSpPr>
            <p:spPr>
              <a:xfrm>
                <a:off x="2743200" y="4572000"/>
                <a:ext cx="3123720" cy="1162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任意多边形 237577"/>
              <p:cNvSpPr/>
              <p:nvPr/>
            </p:nvSpPr>
            <p:spPr>
              <a:xfrm>
                <a:off x="2743200" y="5070600"/>
                <a:ext cx="3123720" cy="66420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0" y="36"/>
                    </a:lnTo>
                    <a:lnTo>
                      <a:pt x="12" y="60"/>
                    </a:lnTo>
                    <a:lnTo>
                      <a:pt x="36" y="90"/>
                    </a:lnTo>
                    <a:lnTo>
                      <a:pt x="51" y="96"/>
                    </a:lnTo>
                    <a:lnTo>
                      <a:pt x="99" y="123"/>
                    </a:lnTo>
                    <a:lnTo>
                      <a:pt x="174" y="150"/>
                    </a:lnTo>
                    <a:lnTo>
                      <a:pt x="312" y="177"/>
                    </a:lnTo>
                    <a:lnTo>
                      <a:pt x="408" y="186"/>
                    </a:lnTo>
                    <a:lnTo>
                      <a:pt x="513" y="192"/>
                    </a:lnTo>
                    <a:lnTo>
                      <a:pt x="615" y="189"/>
                    </a:lnTo>
                    <a:lnTo>
                      <a:pt x="714" y="183"/>
                    </a:lnTo>
                    <a:lnTo>
                      <a:pt x="768" y="174"/>
                    </a:lnTo>
                    <a:lnTo>
                      <a:pt x="888" y="147"/>
                    </a:lnTo>
                    <a:lnTo>
                      <a:pt x="975" y="114"/>
                    </a:lnTo>
                    <a:lnTo>
                      <a:pt x="1002" y="96"/>
                    </a:lnTo>
                    <a:lnTo>
                      <a:pt x="1044" y="60"/>
                    </a:lnTo>
                    <a:lnTo>
                      <a:pt x="1056" y="36"/>
                    </a:lnTo>
                    <a:lnTo>
                      <a:pt x="1056" y="1"/>
                    </a:lnTo>
                  </a:path>
                </a:pathLst>
              </a:custGeom>
              <a:solidFill>
                <a:srgbClr val="ffcc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文本框 237578"/>
            <p:cNvSpPr/>
            <p:nvPr/>
          </p:nvSpPr>
          <p:spPr>
            <a:xfrm>
              <a:off x="4419720" y="46688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文本框 237579"/>
          <p:cNvSpPr/>
          <p:nvPr/>
        </p:nvSpPr>
        <p:spPr>
          <a:xfrm>
            <a:off x="4621680" y="27432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237580"/>
          <p:cNvSpPr/>
          <p:nvPr/>
        </p:nvSpPr>
        <p:spPr>
          <a:xfrm>
            <a:off x="2743200" y="1447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237581"/>
          <p:cNvSpPr/>
          <p:nvPr/>
        </p:nvSpPr>
        <p:spPr>
          <a:xfrm>
            <a:off x="2743200" y="5181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37582"/>
          <p:cNvSpPr/>
          <p:nvPr/>
        </p:nvSpPr>
        <p:spPr>
          <a:xfrm>
            <a:off x="4214880" y="1400040"/>
            <a:ext cx="9504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18" y="6"/>
                </a:moveTo>
                <a:cubicBezTo>
                  <a:pt x="6" y="10"/>
                  <a:pt x="4" y="15"/>
                  <a:pt x="0" y="27"/>
                </a:cubicBezTo>
                <a:cubicBezTo>
                  <a:pt x="2" y="33"/>
                  <a:pt x="4" y="39"/>
                  <a:pt x="6" y="45"/>
                </a:cubicBezTo>
                <a:cubicBezTo>
                  <a:pt x="8" y="51"/>
                  <a:pt x="24" y="51"/>
                  <a:pt x="24" y="51"/>
                </a:cubicBezTo>
                <a:cubicBezTo>
                  <a:pt x="43" y="49"/>
                  <a:pt x="54" y="51"/>
                  <a:pt x="60" y="33"/>
                </a:cubicBezTo>
                <a:cubicBezTo>
                  <a:pt x="59" y="27"/>
                  <a:pt x="59" y="11"/>
                  <a:pt x="51" y="6"/>
                </a:cubicBezTo>
                <a:cubicBezTo>
                  <a:pt x="46" y="3"/>
                  <a:pt x="33" y="0"/>
                  <a:pt x="33" y="0"/>
                </a:cubicBezTo>
                <a:cubicBezTo>
                  <a:pt x="22" y="4"/>
                  <a:pt x="27" y="2"/>
                  <a:pt x="18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37583"/>
          <p:cNvSpPr/>
          <p:nvPr/>
        </p:nvSpPr>
        <p:spPr>
          <a:xfrm>
            <a:off x="4216320" y="5129280"/>
            <a:ext cx="108000" cy="85680"/>
          </a:xfrm>
          <a:custGeom>
            <a:avLst/>
            <a:gdLst/>
            <a:ahLst/>
            <a:rect l="l" t="t" r="r" b="b"/>
            <a:pathLst>
              <a:path w="68" h="54">
                <a:moveTo>
                  <a:pt x="14" y="6"/>
                </a:moveTo>
                <a:cubicBezTo>
                  <a:pt x="6" y="18"/>
                  <a:pt x="0" y="22"/>
                  <a:pt x="11" y="42"/>
                </a:cubicBezTo>
                <a:cubicBezTo>
                  <a:pt x="14" y="48"/>
                  <a:pt x="29" y="54"/>
                  <a:pt x="29" y="54"/>
                </a:cubicBezTo>
                <a:cubicBezTo>
                  <a:pt x="58" y="50"/>
                  <a:pt x="68" y="50"/>
                  <a:pt x="56" y="12"/>
                </a:cubicBezTo>
                <a:cubicBezTo>
                  <a:pt x="53" y="3"/>
                  <a:pt x="29" y="0"/>
                  <a:pt x="29" y="0"/>
                </a:cubicBezTo>
                <a:cubicBezTo>
                  <a:pt x="18" y="4"/>
                  <a:pt x="23" y="2"/>
                  <a:pt x="14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237584"/>
          <p:cNvSpPr/>
          <p:nvPr/>
        </p:nvSpPr>
        <p:spPr>
          <a:xfrm>
            <a:off x="4267080" y="14479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237585"/>
          <p:cNvGrpSpPr/>
          <p:nvPr/>
        </p:nvGrpSpPr>
        <p:grpSpPr>
          <a:xfrm>
            <a:off x="5867280" y="1447920"/>
            <a:ext cx="838440" cy="3733560"/>
            <a:chOff x="5867280" y="1447920"/>
            <a:chExt cx="838440" cy="3733560"/>
          </a:xfrm>
        </p:grpSpPr>
        <p:sp>
          <p:nvSpPr>
            <p:cNvPr id="443" name="直接连接符 237586"/>
            <p:cNvSpPr/>
            <p:nvPr/>
          </p:nvSpPr>
          <p:spPr>
            <a:xfrm>
              <a:off x="5867280" y="1447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237587"/>
            <p:cNvSpPr/>
            <p:nvPr/>
          </p:nvSpPr>
          <p:spPr>
            <a:xfrm>
              <a:off x="5867280" y="5181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237588"/>
          <p:cNvGrpSpPr/>
          <p:nvPr/>
        </p:nvGrpSpPr>
        <p:grpSpPr>
          <a:xfrm>
            <a:off x="6019920" y="1447560"/>
            <a:ext cx="609480" cy="3733920"/>
            <a:chOff x="6019920" y="1447560"/>
            <a:chExt cx="609480" cy="3733920"/>
          </a:xfrm>
        </p:grpSpPr>
        <p:sp>
          <p:nvSpPr>
            <p:cNvPr id="446" name="文本框 237589"/>
            <p:cNvSpPr/>
            <p:nvPr/>
          </p:nvSpPr>
          <p:spPr>
            <a:xfrm>
              <a:off x="6019920" y="2895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直接连接符 237590"/>
            <p:cNvSpPr/>
            <p:nvPr/>
          </p:nvSpPr>
          <p:spPr>
            <a:xfrm flipV="1">
              <a:off x="6324480" y="144756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237591"/>
            <p:cNvSpPr/>
            <p:nvPr/>
          </p:nvSpPr>
          <p:spPr>
            <a:xfrm>
              <a:off x="6324480" y="3505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文本框 237592"/>
          <p:cNvSpPr/>
          <p:nvPr/>
        </p:nvSpPr>
        <p:spPr>
          <a:xfrm>
            <a:off x="38098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37593"/>
          <p:cNvSpPr/>
          <p:nvPr/>
        </p:nvSpPr>
        <p:spPr>
          <a:xfrm>
            <a:off x="380988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237594"/>
          <p:cNvSpPr/>
          <p:nvPr/>
        </p:nvSpPr>
        <p:spPr>
          <a:xfrm>
            <a:off x="5105520" y="1447920"/>
            <a:ext cx="0" cy="373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237595"/>
          <p:cNvSpPr/>
          <p:nvPr/>
        </p:nvSpPr>
        <p:spPr>
          <a:xfrm>
            <a:off x="6019920" y="1447920"/>
            <a:ext cx="0" cy="37335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237596"/>
          <p:cNvSpPr/>
          <p:nvPr/>
        </p:nvSpPr>
        <p:spPr>
          <a:xfrm>
            <a:off x="4343400" y="2057400"/>
            <a:ext cx="0" cy="3657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接连接符 238593"/>
          <p:cNvSpPr/>
          <p:nvPr/>
        </p:nvSpPr>
        <p:spPr>
          <a:xfrm>
            <a:off x="586728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238594"/>
          <p:cNvSpPr/>
          <p:nvPr/>
        </p:nvSpPr>
        <p:spPr>
          <a:xfrm>
            <a:off x="274320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组合 238595"/>
          <p:cNvGrpSpPr/>
          <p:nvPr/>
        </p:nvGrpSpPr>
        <p:grpSpPr>
          <a:xfrm>
            <a:off x="2743200" y="838080"/>
            <a:ext cx="3124080" cy="1239840"/>
            <a:chOff x="2743200" y="838080"/>
            <a:chExt cx="3124080" cy="1239840"/>
          </a:xfrm>
        </p:grpSpPr>
        <p:sp>
          <p:nvSpPr>
            <p:cNvPr id="457" name="椭圆 238596"/>
            <p:cNvSpPr/>
            <p:nvPr/>
          </p:nvSpPr>
          <p:spPr>
            <a:xfrm>
              <a:off x="2743200" y="91440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文本框 238597"/>
            <p:cNvSpPr/>
            <p:nvPr/>
          </p:nvSpPr>
          <p:spPr>
            <a:xfrm>
              <a:off x="3733920" y="8380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38598"/>
          <p:cNvGrpSpPr/>
          <p:nvPr/>
        </p:nvGrpSpPr>
        <p:grpSpPr>
          <a:xfrm>
            <a:off x="2743200" y="4572000"/>
            <a:ext cx="3123720" cy="1162800"/>
            <a:chOff x="2743200" y="4572000"/>
            <a:chExt cx="3123720" cy="1162800"/>
          </a:xfrm>
        </p:grpSpPr>
        <p:grpSp>
          <p:nvGrpSpPr>
            <p:cNvPr id="460" name="组合 238599"/>
            <p:cNvGrpSpPr/>
            <p:nvPr/>
          </p:nvGrpSpPr>
          <p:grpSpPr>
            <a:xfrm>
              <a:off x="2743200" y="4572000"/>
              <a:ext cx="3123720" cy="1162800"/>
              <a:chOff x="2743200" y="4572000"/>
              <a:chExt cx="3123720" cy="1162800"/>
            </a:xfrm>
          </p:grpSpPr>
          <p:sp>
            <p:nvSpPr>
              <p:cNvPr id="461" name="椭圆 238600"/>
              <p:cNvSpPr/>
              <p:nvPr/>
            </p:nvSpPr>
            <p:spPr>
              <a:xfrm>
                <a:off x="2743200" y="4572000"/>
                <a:ext cx="3123720" cy="1162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任意多边形 238601"/>
              <p:cNvSpPr/>
              <p:nvPr/>
            </p:nvSpPr>
            <p:spPr>
              <a:xfrm>
                <a:off x="2743200" y="5070600"/>
                <a:ext cx="3123720" cy="66420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0" y="36"/>
                    </a:lnTo>
                    <a:lnTo>
                      <a:pt x="12" y="60"/>
                    </a:lnTo>
                    <a:lnTo>
                      <a:pt x="36" y="90"/>
                    </a:lnTo>
                    <a:lnTo>
                      <a:pt x="51" y="96"/>
                    </a:lnTo>
                    <a:lnTo>
                      <a:pt x="99" y="123"/>
                    </a:lnTo>
                    <a:lnTo>
                      <a:pt x="174" y="150"/>
                    </a:lnTo>
                    <a:lnTo>
                      <a:pt x="312" y="177"/>
                    </a:lnTo>
                    <a:lnTo>
                      <a:pt x="408" y="186"/>
                    </a:lnTo>
                    <a:lnTo>
                      <a:pt x="513" y="192"/>
                    </a:lnTo>
                    <a:lnTo>
                      <a:pt x="615" y="189"/>
                    </a:lnTo>
                    <a:lnTo>
                      <a:pt x="714" y="183"/>
                    </a:lnTo>
                    <a:lnTo>
                      <a:pt x="768" y="174"/>
                    </a:lnTo>
                    <a:lnTo>
                      <a:pt x="888" y="147"/>
                    </a:lnTo>
                    <a:lnTo>
                      <a:pt x="975" y="114"/>
                    </a:lnTo>
                    <a:lnTo>
                      <a:pt x="1002" y="96"/>
                    </a:lnTo>
                    <a:lnTo>
                      <a:pt x="1044" y="60"/>
                    </a:lnTo>
                    <a:lnTo>
                      <a:pt x="1056" y="36"/>
                    </a:lnTo>
                    <a:lnTo>
                      <a:pt x="1056" y="1"/>
                    </a:lnTo>
                  </a:path>
                </a:pathLst>
              </a:custGeom>
              <a:solidFill>
                <a:srgbClr val="ffcc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文本框 238602"/>
            <p:cNvSpPr/>
            <p:nvPr/>
          </p:nvSpPr>
          <p:spPr>
            <a:xfrm>
              <a:off x="4419720" y="46688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文本框 238603"/>
          <p:cNvSpPr/>
          <p:nvPr/>
        </p:nvSpPr>
        <p:spPr>
          <a:xfrm>
            <a:off x="4621680" y="27432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38604"/>
          <p:cNvSpPr/>
          <p:nvPr/>
        </p:nvSpPr>
        <p:spPr>
          <a:xfrm>
            <a:off x="2743200" y="1447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38605"/>
          <p:cNvSpPr/>
          <p:nvPr/>
        </p:nvSpPr>
        <p:spPr>
          <a:xfrm>
            <a:off x="2743200" y="5181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238606"/>
          <p:cNvSpPr/>
          <p:nvPr/>
        </p:nvSpPr>
        <p:spPr>
          <a:xfrm>
            <a:off x="4214880" y="1400040"/>
            <a:ext cx="9504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18" y="6"/>
                </a:moveTo>
                <a:cubicBezTo>
                  <a:pt x="6" y="10"/>
                  <a:pt x="4" y="15"/>
                  <a:pt x="0" y="27"/>
                </a:cubicBezTo>
                <a:cubicBezTo>
                  <a:pt x="2" y="33"/>
                  <a:pt x="4" y="39"/>
                  <a:pt x="6" y="45"/>
                </a:cubicBezTo>
                <a:cubicBezTo>
                  <a:pt x="8" y="51"/>
                  <a:pt x="24" y="51"/>
                  <a:pt x="24" y="51"/>
                </a:cubicBezTo>
                <a:cubicBezTo>
                  <a:pt x="43" y="49"/>
                  <a:pt x="54" y="51"/>
                  <a:pt x="60" y="33"/>
                </a:cubicBezTo>
                <a:cubicBezTo>
                  <a:pt x="59" y="27"/>
                  <a:pt x="59" y="11"/>
                  <a:pt x="51" y="6"/>
                </a:cubicBezTo>
                <a:cubicBezTo>
                  <a:pt x="46" y="3"/>
                  <a:pt x="33" y="0"/>
                  <a:pt x="33" y="0"/>
                </a:cubicBezTo>
                <a:cubicBezTo>
                  <a:pt x="22" y="4"/>
                  <a:pt x="27" y="2"/>
                  <a:pt x="18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238607"/>
          <p:cNvSpPr/>
          <p:nvPr/>
        </p:nvSpPr>
        <p:spPr>
          <a:xfrm>
            <a:off x="4216320" y="5129280"/>
            <a:ext cx="108000" cy="85680"/>
          </a:xfrm>
          <a:custGeom>
            <a:avLst/>
            <a:gdLst/>
            <a:ahLst/>
            <a:rect l="l" t="t" r="r" b="b"/>
            <a:pathLst>
              <a:path w="68" h="54">
                <a:moveTo>
                  <a:pt x="14" y="6"/>
                </a:moveTo>
                <a:cubicBezTo>
                  <a:pt x="6" y="18"/>
                  <a:pt x="0" y="22"/>
                  <a:pt x="11" y="42"/>
                </a:cubicBezTo>
                <a:cubicBezTo>
                  <a:pt x="14" y="48"/>
                  <a:pt x="29" y="54"/>
                  <a:pt x="29" y="54"/>
                </a:cubicBezTo>
                <a:cubicBezTo>
                  <a:pt x="58" y="50"/>
                  <a:pt x="68" y="50"/>
                  <a:pt x="56" y="12"/>
                </a:cubicBezTo>
                <a:cubicBezTo>
                  <a:pt x="53" y="3"/>
                  <a:pt x="29" y="0"/>
                  <a:pt x="29" y="0"/>
                </a:cubicBezTo>
                <a:cubicBezTo>
                  <a:pt x="18" y="4"/>
                  <a:pt x="23" y="2"/>
                  <a:pt x="14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238608"/>
          <p:cNvSpPr/>
          <p:nvPr/>
        </p:nvSpPr>
        <p:spPr>
          <a:xfrm>
            <a:off x="4267080" y="14479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组合 238609"/>
          <p:cNvGrpSpPr/>
          <p:nvPr/>
        </p:nvGrpSpPr>
        <p:grpSpPr>
          <a:xfrm>
            <a:off x="5867280" y="1447920"/>
            <a:ext cx="838440" cy="3733560"/>
            <a:chOff x="5867280" y="1447920"/>
            <a:chExt cx="838440" cy="3733560"/>
          </a:xfrm>
        </p:grpSpPr>
        <p:sp>
          <p:nvSpPr>
            <p:cNvPr id="471" name="直接连接符 238610"/>
            <p:cNvSpPr/>
            <p:nvPr/>
          </p:nvSpPr>
          <p:spPr>
            <a:xfrm>
              <a:off x="5867280" y="1447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238611"/>
            <p:cNvSpPr/>
            <p:nvPr/>
          </p:nvSpPr>
          <p:spPr>
            <a:xfrm>
              <a:off x="5867280" y="5181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238612"/>
          <p:cNvGrpSpPr/>
          <p:nvPr/>
        </p:nvGrpSpPr>
        <p:grpSpPr>
          <a:xfrm>
            <a:off x="6019920" y="1447560"/>
            <a:ext cx="609480" cy="3733920"/>
            <a:chOff x="6019920" y="1447560"/>
            <a:chExt cx="609480" cy="3733920"/>
          </a:xfrm>
        </p:grpSpPr>
        <p:sp>
          <p:nvSpPr>
            <p:cNvPr id="474" name="文本框 238613"/>
            <p:cNvSpPr/>
            <p:nvPr/>
          </p:nvSpPr>
          <p:spPr>
            <a:xfrm>
              <a:off x="6019920" y="2895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直接连接符 238614"/>
            <p:cNvSpPr/>
            <p:nvPr/>
          </p:nvSpPr>
          <p:spPr>
            <a:xfrm flipV="1">
              <a:off x="6324480" y="144756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直接连接符 238615"/>
            <p:cNvSpPr/>
            <p:nvPr/>
          </p:nvSpPr>
          <p:spPr>
            <a:xfrm>
              <a:off x="6324480" y="3505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文本框 238616"/>
          <p:cNvSpPr/>
          <p:nvPr/>
        </p:nvSpPr>
        <p:spPr>
          <a:xfrm>
            <a:off x="38098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238617"/>
          <p:cNvSpPr/>
          <p:nvPr/>
        </p:nvSpPr>
        <p:spPr>
          <a:xfrm>
            <a:off x="380988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238618"/>
          <p:cNvSpPr/>
          <p:nvPr/>
        </p:nvSpPr>
        <p:spPr>
          <a:xfrm>
            <a:off x="5410080" y="1447920"/>
            <a:ext cx="0" cy="373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238619"/>
          <p:cNvSpPr/>
          <p:nvPr/>
        </p:nvSpPr>
        <p:spPr>
          <a:xfrm>
            <a:off x="6019920" y="1447920"/>
            <a:ext cx="0" cy="37335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238620"/>
          <p:cNvSpPr/>
          <p:nvPr/>
        </p:nvSpPr>
        <p:spPr>
          <a:xfrm>
            <a:off x="4952880" y="2057400"/>
            <a:ext cx="0" cy="3657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直接连接符 239617"/>
          <p:cNvSpPr/>
          <p:nvPr/>
        </p:nvSpPr>
        <p:spPr>
          <a:xfrm>
            <a:off x="586728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239618"/>
          <p:cNvSpPr/>
          <p:nvPr/>
        </p:nvSpPr>
        <p:spPr>
          <a:xfrm>
            <a:off x="2743200" y="149688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组合 239619"/>
          <p:cNvGrpSpPr/>
          <p:nvPr/>
        </p:nvGrpSpPr>
        <p:grpSpPr>
          <a:xfrm>
            <a:off x="2743200" y="838080"/>
            <a:ext cx="3124080" cy="1239840"/>
            <a:chOff x="2743200" y="838080"/>
            <a:chExt cx="3124080" cy="1239840"/>
          </a:xfrm>
        </p:grpSpPr>
        <p:sp>
          <p:nvSpPr>
            <p:cNvPr id="485" name="椭圆 239620"/>
            <p:cNvSpPr/>
            <p:nvPr/>
          </p:nvSpPr>
          <p:spPr>
            <a:xfrm>
              <a:off x="2743200" y="91440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文本框 239621"/>
            <p:cNvSpPr/>
            <p:nvPr/>
          </p:nvSpPr>
          <p:spPr>
            <a:xfrm>
              <a:off x="3733920" y="8380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组合 239622"/>
          <p:cNvGrpSpPr/>
          <p:nvPr/>
        </p:nvGrpSpPr>
        <p:grpSpPr>
          <a:xfrm>
            <a:off x="2743200" y="4572000"/>
            <a:ext cx="3123720" cy="1162800"/>
            <a:chOff x="2743200" y="4572000"/>
            <a:chExt cx="3123720" cy="1162800"/>
          </a:xfrm>
        </p:grpSpPr>
        <p:grpSp>
          <p:nvGrpSpPr>
            <p:cNvPr id="488" name="组合 239623"/>
            <p:cNvGrpSpPr/>
            <p:nvPr/>
          </p:nvGrpSpPr>
          <p:grpSpPr>
            <a:xfrm>
              <a:off x="2743200" y="4572000"/>
              <a:ext cx="3123720" cy="1162800"/>
              <a:chOff x="2743200" y="4572000"/>
              <a:chExt cx="3123720" cy="1162800"/>
            </a:xfrm>
          </p:grpSpPr>
          <p:sp>
            <p:nvSpPr>
              <p:cNvPr id="489" name="椭圆 239624"/>
              <p:cNvSpPr/>
              <p:nvPr/>
            </p:nvSpPr>
            <p:spPr>
              <a:xfrm>
                <a:off x="2743200" y="4572000"/>
                <a:ext cx="3123720" cy="1162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任意多边形 239625"/>
              <p:cNvSpPr/>
              <p:nvPr/>
            </p:nvSpPr>
            <p:spPr>
              <a:xfrm>
                <a:off x="2743200" y="5070600"/>
                <a:ext cx="3123720" cy="66420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0" y="36"/>
                    </a:lnTo>
                    <a:lnTo>
                      <a:pt x="12" y="60"/>
                    </a:lnTo>
                    <a:lnTo>
                      <a:pt x="36" y="90"/>
                    </a:lnTo>
                    <a:lnTo>
                      <a:pt x="51" y="96"/>
                    </a:lnTo>
                    <a:lnTo>
                      <a:pt x="99" y="123"/>
                    </a:lnTo>
                    <a:lnTo>
                      <a:pt x="174" y="150"/>
                    </a:lnTo>
                    <a:lnTo>
                      <a:pt x="312" y="177"/>
                    </a:lnTo>
                    <a:lnTo>
                      <a:pt x="408" y="186"/>
                    </a:lnTo>
                    <a:lnTo>
                      <a:pt x="513" y="192"/>
                    </a:lnTo>
                    <a:lnTo>
                      <a:pt x="615" y="189"/>
                    </a:lnTo>
                    <a:lnTo>
                      <a:pt x="714" y="183"/>
                    </a:lnTo>
                    <a:lnTo>
                      <a:pt x="768" y="174"/>
                    </a:lnTo>
                    <a:lnTo>
                      <a:pt x="888" y="147"/>
                    </a:lnTo>
                    <a:lnTo>
                      <a:pt x="975" y="114"/>
                    </a:lnTo>
                    <a:lnTo>
                      <a:pt x="1002" y="96"/>
                    </a:lnTo>
                    <a:lnTo>
                      <a:pt x="1044" y="60"/>
                    </a:lnTo>
                    <a:lnTo>
                      <a:pt x="1056" y="36"/>
                    </a:lnTo>
                    <a:lnTo>
                      <a:pt x="1056" y="1"/>
                    </a:lnTo>
                  </a:path>
                </a:pathLst>
              </a:custGeom>
              <a:solidFill>
                <a:srgbClr val="ffcc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文本框 239626"/>
            <p:cNvSpPr/>
            <p:nvPr/>
          </p:nvSpPr>
          <p:spPr>
            <a:xfrm>
              <a:off x="4419720" y="46688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文本框 239627"/>
          <p:cNvSpPr/>
          <p:nvPr/>
        </p:nvSpPr>
        <p:spPr>
          <a:xfrm>
            <a:off x="4621680" y="274320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239628"/>
          <p:cNvSpPr/>
          <p:nvPr/>
        </p:nvSpPr>
        <p:spPr>
          <a:xfrm>
            <a:off x="2743200" y="144792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239629"/>
          <p:cNvSpPr/>
          <p:nvPr/>
        </p:nvSpPr>
        <p:spPr>
          <a:xfrm>
            <a:off x="2743200" y="51814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239630"/>
          <p:cNvSpPr/>
          <p:nvPr/>
        </p:nvSpPr>
        <p:spPr>
          <a:xfrm>
            <a:off x="4214880" y="1400040"/>
            <a:ext cx="9504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18" y="6"/>
                </a:moveTo>
                <a:cubicBezTo>
                  <a:pt x="6" y="10"/>
                  <a:pt x="4" y="15"/>
                  <a:pt x="0" y="27"/>
                </a:cubicBezTo>
                <a:cubicBezTo>
                  <a:pt x="2" y="33"/>
                  <a:pt x="4" y="39"/>
                  <a:pt x="6" y="45"/>
                </a:cubicBezTo>
                <a:cubicBezTo>
                  <a:pt x="8" y="51"/>
                  <a:pt x="24" y="51"/>
                  <a:pt x="24" y="51"/>
                </a:cubicBezTo>
                <a:cubicBezTo>
                  <a:pt x="43" y="49"/>
                  <a:pt x="54" y="51"/>
                  <a:pt x="60" y="33"/>
                </a:cubicBezTo>
                <a:cubicBezTo>
                  <a:pt x="59" y="27"/>
                  <a:pt x="59" y="11"/>
                  <a:pt x="51" y="6"/>
                </a:cubicBezTo>
                <a:cubicBezTo>
                  <a:pt x="46" y="3"/>
                  <a:pt x="33" y="0"/>
                  <a:pt x="33" y="0"/>
                </a:cubicBezTo>
                <a:cubicBezTo>
                  <a:pt x="22" y="4"/>
                  <a:pt x="27" y="2"/>
                  <a:pt x="18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39631"/>
          <p:cNvSpPr/>
          <p:nvPr/>
        </p:nvSpPr>
        <p:spPr>
          <a:xfrm>
            <a:off x="4216320" y="5129280"/>
            <a:ext cx="108000" cy="85680"/>
          </a:xfrm>
          <a:custGeom>
            <a:avLst/>
            <a:gdLst/>
            <a:ahLst/>
            <a:rect l="l" t="t" r="r" b="b"/>
            <a:pathLst>
              <a:path w="68" h="54">
                <a:moveTo>
                  <a:pt x="14" y="6"/>
                </a:moveTo>
                <a:cubicBezTo>
                  <a:pt x="6" y="18"/>
                  <a:pt x="0" y="22"/>
                  <a:pt x="11" y="42"/>
                </a:cubicBezTo>
                <a:cubicBezTo>
                  <a:pt x="14" y="48"/>
                  <a:pt x="29" y="54"/>
                  <a:pt x="29" y="54"/>
                </a:cubicBezTo>
                <a:cubicBezTo>
                  <a:pt x="58" y="50"/>
                  <a:pt x="68" y="50"/>
                  <a:pt x="56" y="12"/>
                </a:cubicBezTo>
                <a:cubicBezTo>
                  <a:pt x="53" y="3"/>
                  <a:pt x="29" y="0"/>
                  <a:pt x="29" y="0"/>
                </a:cubicBezTo>
                <a:cubicBezTo>
                  <a:pt x="18" y="4"/>
                  <a:pt x="23" y="2"/>
                  <a:pt x="14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239632"/>
          <p:cNvSpPr/>
          <p:nvPr/>
        </p:nvSpPr>
        <p:spPr>
          <a:xfrm>
            <a:off x="4267080" y="144792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组合 239633"/>
          <p:cNvGrpSpPr/>
          <p:nvPr/>
        </p:nvGrpSpPr>
        <p:grpSpPr>
          <a:xfrm>
            <a:off x="5867280" y="1447920"/>
            <a:ext cx="838440" cy="3733560"/>
            <a:chOff x="5867280" y="1447920"/>
            <a:chExt cx="838440" cy="3733560"/>
          </a:xfrm>
        </p:grpSpPr>
        <p:sp>
          <p:nvSpPr>
            <p:cNvPr id="499" name="直接连接符 239634"/>
            <p:cNvSpPr/>
            <p:nvPr/>
          </p:nvSpPr>
          <p:spPr>
            <a:xfrm>
              <a:off x="5867280" y="14479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239635"/>
            <p:cNvSpPr/>
            <p:nvPr/>
          </p:nvSpPr>
          <p:spPr>
            <a:xfrm>
              <a:off x="5867280" y="5181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组合 239636"/>
          <p:cNvGrpSpPr/>
          <p:nvPr/>
        </p:nvGrpSpPr>
        <p:grpSpPr>
          <a:xfrm>
            <a:off x="6019920" y="1447560"/>
            <a:ext cx="609480" cy="3733920"/>
            <a:chOff x="6019920" y="1447560"/>
            <a:chExt cx="609480" cy="3733920"/>
          </a:xfrm>
        </p:grpSpPr>
        <p:sp>
          <p:nvSpPr>
            <p:cNvPr id="502" name="文本框 239637"/>
            <p:cNvSpPr/>
            <p:nvPr/>
          </p:nvSpPr>
          <p:spPr>
            <a:xfrm>
              <a:off x="6019920" y="28954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239638"/>
            <p:cNvSpPr/>
            <p:nvPr/>
          </p:nvSpPr>
          <p:spPr>
            <a:xfrm flipV="1">
              <a:off x="6324480" y="144756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直接连接符 239639"/>
            <p:cNvSpPr/>
            <p:nvPr/>
          </p:nvSpPr>
          <p:spPr>
            <a:xfrm>
              <a:off x="6324480" y="350532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文本框 239640"/>
          <p:cNvSpPr/>
          <p:nvPr/>
        </p:nvSpPr>
        <p:spPr>
          <a:xfrm>
            <a:off x="3809880" y="5105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239641"/>
          <p:cNvSpPr/>
          <p:nvPr/>
        </p:nvSpPr>
        <p:spPr>
          <a:xfrm>
            <a:off x="380988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39642"/>
          <p:cNvSpPr/>
          <p:nvPr/>
        </p:nvSpPr>
        <p:spPr>
          <a:xfrm>
            <a:off x="5791320" y="1447920"/>
            <a:ext cx="0" cy="373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239643"/>
          <p:cNvSpPr/>
          <p:nvPr/>
        </p:nvSpPr>
        <p:spPr>
          <a:xfrm>
            <a:off x="6019920" y="1447920"/>
            <a:ext cx="0" cy="37335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239644"/>
          <p:cNvSpPr/>
          <p:nvPr/>
        </p:nvSpPr>
        <p:spPr>
          <a:xfrm>
            <a:off x="5486400" y="1905120"/>
            <a:ext cx="0" cy="3657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179280" y="1844640"/>
            <a:ext cx="872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过观察操作交流等活动认识圆柱和圆锥，认识和掌握圆柱和圆锥的基本特征，知道圆柱和圆锥的底面、侧面和高的含义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学习活动中，进一步感受几何体的特征，积累认识立体图形的经验，增强空间观念，培养观察、比较、抽象、概括等思维能力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能主动观察思考，进一步体验立体图形与现实生活的联系，提高学习数学的兴趣和积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86" name="圆角矩形 5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87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学习目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90" name="椭圆 11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椭圆 13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92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椭圆 29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椭圆 30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96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圆角矩形 31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99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圆角矩形 32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102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圆角矩形 33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105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圆角矩形 3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108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直接连接符 240641"/>
          <p:cNvSpPr/>
          <p:nvPr/>
        </p:nvSpPr>
        <p:spPr>
          <a:xfrm>
            <a:off x="5867280" y="185724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直接连接符 240642"/>
          <p:cNvSpPr/>
          <p:nvPr/>
        </p:nvSpPr>
        <p:spPr>
          <a:xfrm>
            <a:off x="2743200" y="1857240"/>
            <a:ext cx="0" cy="363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组合 240643"/>
          <p:cNvGrpSpPr/>
          <p:nvPr/>
        </p:nvGrpSpPr>
        <p:grpSpPr>
          <a:xfrm>
            <a:off x="2743200" y="1198440"/>
            <a:ext cx="3124080" cy="1239840"/>
            <a:chOff x="2743200" y="1198440"/>
            <a:chExt cx="3124080" cy="1239840"/>
          </a:xfrm>
        </p:grpSpPr>
        <p:sp>
          <p:nvSpPr>
            <p:cNvPr id="513" name="椭圆 240644"/>
            <p:cNvSpPr/>
            <p:nvPr/>
          </p:nvSpPr>
          <p:spPr>
            <a:xfrm>
              <a:off x="2743200" y="127476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文本框 240645"/>
            <p:cNvSpPr/>
            <p:nvPr/>
          </p:nvSpPr>
          <p:spPr>
            <a:xfrm>
              <a:off x="3733920" y="119844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240646"/>
          <p:cNvGrpSpPr/>
          <p:nvPr/>
        </p:nvGrpSpPr>
        <p:grpSpPr>
          <a:xfrm>
            <a:off x="2743200" y="4932360"/>
            <a:ext cx="3123720" cy="1162800"/>
            <a:chOff x="2743200" y="4932360"/>
            <a:chExt cx="3123720" cy="1162800"/>
          </a:xfrm>
        </p:grpSpPr>
        <p:grpSp>
          <p:nvGrpSpPr>
            <p:cNvPr id="516" name="组合 240647"/>
            <p:cNvGrpSpPr/>
            <p:nvPr/>
          </p:nvGrpSpPr>
          <p:grpSpPr>
            <a:xfrm>
              <a:off x="2743200" y="4932360"/>
              <a:ext cx="3123720" cy="1162800"/>
              <a:chOff x="2743200" y="4932360"/>
              <a:chExt cx="3123720" cy="1162800"/>
            </a:xfrm>
          </p:grpSpPr>
          <p:sp>
            <p:nvSpPr>
              <p:cNvPr id="517" name="椭圆 240648"/>
              <p:cNvSpPr/>
              <p:nvPr/>
            </p:nvSpPr>
            <p:spPr>
              <a:xfrm>
                <a:off x="2743200" y="4932360"/>
                <a:ext cx="3123720" cy="1162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任意多边形 240649"/>
              <p:cNvSpPr/>
              <p:nvPr/>
            </p:nvSpPr>
            <p:spPr>
              <a:xfrm>
                <a:off x="2743200" y="5430960"/>
                <a:ext cx="3123720" cy="664200"/>
              </a:xfrm>
              <a:custGeom>
                <a:avLst/>
                <a:gdLst/>
                <a:ahLst/>
                <a:rect l="l" t="t" r="r" b="b"/>
                <a:pathLst>
                  <a:path w="1056" h="192">
                    <a:moveTo>
                      <a:pt x="0" y="0"/>
                    </a:moveTo>
                    <a:lnTo>
                      <a:pt x="0" y="36"/>
                    </a:lnTo>
                    <a:lnTo>
                      <a:pt x="12" y="60"/>
                    </a:lnTo>
                    <a:lnTo>
                      <a:pt x="36" y="90"/>
                    </a:lnTo>
                    <a:lnTo>
                      <a:pt x="51" y="96"/>
                    </a:lnTo>
                    <a:lnTo>
                      <a:pt x="99" y="123"/>
                    </a:lnTo>
                    <a:lnTo>
                      <a:pt x="174" y="150"/>
                    </a:lnTo>
                    <a:lnTo>
                      <a:pt x="312" y="177"/>
                    </a:lnTo>
                    <a:lnTo>
                      <a:pt x="408" y="186"/>
                    </a:lnTo>
                    <a:lnTo>
                      <a:pt x="513" y="192"/>
                    </a:lnTo>
                    <a:lnTo>
                      <a:pt x="615" y="189"/>
                    </a:lnTo>
                    <a:lnTo>
                      <a:pt x="714" y="183"/>
                    </a:lnTo>
                    <a:lnTo>
                      <a:pt x="768" y="174"/>
                    </a:lnTo>
                    <a:lnTo>
                      <a:pt x="888" y="147"/>
                    </a:lnTo>
                    <a:lnTo>
                      <a:pt x="975" y="114"/>
                    </a:lnTo>
                    <a:lnTo>
                      <a:pt x="1002" y="96"/>
                    </a:lnTo>
                    <a:lnTo>
                      <a:pt x="1044" y="60"/>
                    </a:lnTo>
                    <a:lnTo>
                      <a:pt x="1056" y="36"/>
                    </a:lnTo>
                    <a:lnTo>
                      <a:pt x="1056" y="1"/>
                    </a:lnTo>
                  </a:path>
                </a:pathLst>
              </a:custGeom>
              <a:solidFill>
                <a:srgbClr val="ffcc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文本框 240650"/>
            <p:cNvSpPr/>
            <p:nvPr/>
          </p:nvSpPr>
          <p:spPr>
            <a:xfrm>
              <a:off x="4419720" y="50292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文本框 240651"/>
          <p:cNvSpPr/>
          <p:nvPr/>
        </p:nvSpPr>
        <p:spPr>
          <a:xfrm>
            <a:off x="4621680" y="3103560"/>
            <a:ext cx="1155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侧 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直接连接符 240652"/>
          <p:cNvSpPr/>
          <p:nvPr/>
        </p:nvSpPr>
        <p:spPr>
          <a:xfrm>
            <a:off x="2743200" y="180828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直接连接符 240653"/>
          <p:cNvSpPr/>
          <p:nvPr/>
        </p:nvSpPr>
        <p:spPr>
          <a:xfrm>
            <a:off x="2743200" y="55418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240654"/>
          <p:cNvSpPr/>
          <p:nvPr/>
        </p:nvSpPr>
        <p:spPr>
          <a:xfrm>
            <a:off x="4214880" y="1760400"/>
            <a:ext cx="9504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18" y="6"/>
                </a:moveTo>
                <a:cubicBezTo>
                  <a:pt x="6" y="10"/>
                  <a:pt x="4" y="15"/>
                  <a:pt x="0" y="27"/>
                </a:cubicBezTo>
                <a:cubicBezTo>
                  <a:pt x="2" y="33"/>
                  <a:pt x="4" y="39"/>
                  <a:pt x="6" y="45"/>
                </a:cubicBezTo>
                <a:cubicBezTo>
                  <a:pt x="8" y="51"/>
                  <a:pt x="24" y="51"/>
                  <a:pt x="24" y="51"/>
                </a:cubicBezTo>
                <a:cubicBezTo>
                  <a:pt x="43" y="49"/>
                  <a:pt x="54" y="51"/>
                  <a:pt x="60" y="33"/>
                </a:cubicBezTo>
                <a:cubicBezTo>
                  <a:pt x="59" y="27"/>
                  <a:pt x="59" y="11"/>
                  <a:pt x="51" y="6"/>
                </a:cubicBezTo>
                <a:cubicBezTo>
                  <a:pt x="46" y="3"/>
                  <a:pt x="33" y="0"/>
                  <a:pt x="33" y="0"/>
                </a:cubicBezTo>
                <a:cubicBezTo>
                  <a:pt x="22" y="4"/>
                  <a:pt x="27" y="2"/>
                  <a:pt x="18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240655"/>
          <p:cNvSpPr/>
          <p:nvPr/>
        </p:nvSpPr>
        <p:spPr>
          <a:xfrm>
            <a:off x="4216320" y="5489640"/>
            <a:ext cx="108000" cy="85680"/>
          </a:xfrm>
          <a:custGeom>
            <a:avLst/>
            <a:gdLst/>
            <a:ahLst/>
            <a:rect l="l" t="t" r="r" b="b"/>
            <a:pathLst>
              <a:path w="68" h="54">
                <a:moveTo>
                  <a:pt x="14" y="6"/>
                </a:moveTo>
                <a:cubicBezTo>
                  <a:pt x="6" y="18"/>
                  <a:pt x="0" y="22"/>
                  <a:pt x="11" y="42"/>
                </a:cubicBezTo>
                <a:cubicBezTo>
                  <a:pt x="14" y="48"/>
                  <a:pt x="29" y="54"/>
                  <a:pt x="29" y="54"/>
                </a:cubicBezTo>
                <a:cubicBezTo>
                  <a:pt x="58" y="50"/>
                  <a:pt x="68" y="50"/>
                  <a:pt x="56" y="12"/>
                </a:cubicBezTo>
                <a:cubicBezTo>
                  <a:pt x="53" y="3"/>
                  <a:pt x="29" y="0"/>
                  <a:pt x="29" y="0"/>
                </a:cubicBezTo>
                <a:cubicBezTo>
                  <a:pt x="18" y="4"/>
                  <a:pt x="23" y="2"/>
                  <a:pt x="14" y="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直接连接符 240656"/>
          <p:cNvSpPr/>
          <p:nvPr/>
        </p:nvSpPr>
        <p:spPr>
          <a:xfrm>
            <a:off x="4267080" y="180828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240657"/>
          <p:cNvGrpSpPr/>
          <p:nvPr/>
        </p:nvGrpSpPr>
        <p:grpSpPr>
          <a:xfrm>
            <a:off x="5867280" y="1808280"/>
            <a:ext cx="838440" cy="3733560"/>
            <a:chOff x="5867280" y="1808280"/>
            <a:chExt cx="838440" cy="3733560"/>
          </a:xfrm>
        </p:grpSpPr>
        <p:sp>
          <p:nvSpPr>
            <p:cNvPr id="527" name="直接连接符 240658"/>
            <p:cNvSpPr/>
            <p:nvPr/>
          </p:nvSpPr>
          <p:spPr>
            <a:xfrm>
              <a:off x="5867280" y="1808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240659"/>
            <p:cNvSpPr/>
            <p:nvPr/>
          </p:nvSpPr>
          <p:spPr>
            <a:xfrm>
              <a:off x="5867280" y="554184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240660"/>
          <p:cNvGrpSpPr/>
          <p:nvPr/>
        </p:nvGrpSpPr>
        <p:grpSpPr>
          <a:xfrm>
            <a:off x="6019920" y="1807920"/>
            <a:ext cx="609480" cy="3733920"/>
            <a:chOff x="6019920" y="1807920"/>
            <a:chExt cx="609480" cy="3733920"/>
          </a:xfrm>
        </p:grpSpPr>
        <p:sp>
          <p:nvSpPr>
            <p:cNvPr id="530" name="文本框 240661"/>
            <p:cNvSpPr/>
            <p:nvPr/>
          </p:nvSpPr>
          <p:spPr>
            <a:xfrm>
              <a:off x="6019920" y="32558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直接连接符 240662"/>
            <p:cNvSpPr/>
            <p:nvPr/>
          </p:nvSpPr>
          <p:spPr>
            <a:xfrm flipV="1">
              <a:off x="6324480" y="180792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直接连接符 240663"/>
            <p:cNvSpPr/>
            <p:nvPr/>
          </p:nvSpPr>
          <p:spPr>
            <a:xfrm>
              <a:off x="6324480" y="386568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文本框 240664"/>
          <p:cNvSpPr/>
          <p:nvPr/>
        </p:nvSpPr>
        <p:spPr>
          <a:xfrm>
            <a:off x="3809880" y="5465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40665"/>
          <p:cNvSpPr/>
          <p:nvPr/>
        </p:nvSpPr>
        <p:spPr>
          <a:xfrm>
            <a:off x="3809880" y="1731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240666"/>
          <p:cNvSpPr/>
          <p:nvPr/>
        </p:nvSpPr>
        <p:spPr>
          <a:xfrm>
            <a:off x="6019920" y="1808280"/>
            <a:ext cx="0" cy="3733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接连接符 240667"/>
          <p:cNvSpPr/>
          <p:nvPr/>
        </p:nvSpPr>
        <p:spPr>
          <a:xfrm>
            <a:off x="6095880" y="1808280"/>
            <a:ext cx="0" cy="37335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240668"/>
          <p:cNvSpPr/>
          <p:nvPr/>
        </p:nvSpPr>
        <p:spPr>
          <a:xfrm>
            <a:off x="5943600" y="1808280"/>
            <a:ext cx="0" cy="3733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40669"/>
          <p:cNvSpPr/>
          <p:nvPr/>
        </p:nvSpPr>
        <p:spPr>
          <a:xfrm>
            <a:off x="1143000" y="588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柱的高有无数条，高的长度都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240643"/>
          <p:cNvGrpSpPr/>
          <p:nvPr/>
        </p:nvGrpSpPr>
        <p:grpSpPr>
          <a:xfrm>
            <a:off x="2743200" y="1190520"/>
            <a:ext cx="3124080" cy="1239840"/>
            <a:chOff x="2743200" y="1190520"/>
            <a:chExt cx="3124080" cy="1239840"/>
          </a:xfrm>
        </p:grpSpPr>
        <p:sp>
          <p:nvSpPr>
            <p:cNvPr id="540" name="椭圆 240644"/>
            <p:cNvSpPr/>
            <p:nvPr/>
          </p:nvSpPr>
          <p:spPr>
            <a:xfrm>
              <a:off x="2743200" y="1266840"/>
              <a:ext cx="3124080" cy="11635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0645"/>
            <p:cNvSpPr/>
            <p:nvPr/>
          </p:nvSpPr>
          <p:spPr>
            <a:xfrm>
              <a:off x="3733920" y="11905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240660"/>
          <p:cNvGrpSpPr/>
          <p:nvPr/>
        </p:nvGrpSpPr>
        <p:grpSpPr>
          <a:xfrm>
            <a:off x="6019920" y="1800000"/>
            <a:ext cx="609480" cy="3733920"/>
            <a:chOff x="6019920" y="1800000"/>
            <a:chExt cx="609480" cy="3733920"/>
          </a:xfrm>
        </p:grpSpPr>
        <p:sp>
          <p:nvSpPr>
            <p:cNvPr id="543" name="文本框 240661"/>
            <p:cNvSpPr/>
            <p:nvPr/>
          </p:nvSpPr>
          <p:spPr>
            <a:xfrm>
              <a:off x="6019920" y="3247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240662"/>
            <p:cNvSpPr/>
            <p:nvPr/>
          </p:nvSpPr>
          <p:spPr>
            <a:xfrm flipV="1">
              <a:off x="6324480" y="180000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直接连接符 240663"/>
            <p:cNvSpPr/>
            <p:nvPr/>
          </p:nvSpPr>
          <p:spPr>
            <a:xfrm>
              <a:off x="6324480" y="3857760"/>
              <a:ext cx="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组合 242689"/>
          <p:cNvGrpSpPr/>
          <p:nvPr/>
        </p:nvGrpSpPr>
        <p:grpSpPr>
          <a:xfrm>
            <a:off x="3505320" y="1676520"/>
            <a:ext cx="1676160" cy="2589480"/>
            <a:chOff x="3505320" y="1676520"/>
            <a:chExt cx="1676160" cy="2589480"/>
          </a:xfrm>
        </p:grpSpPr>
        <p:grpSp>
          <p:nvGrpSpPr>
            <p:cNvPr id="547" name="组合 242690"/>
            <p:cNvGrpSpPr/>
            <p:nvPr/>
          </p:nvGrpSpPr>
          <p:grpSpPr>
            <a:xfrm>
              <a:off x="3505320" y="1676520"/>
              <a:ext cx="1676160" cy="2589480"/>
              <a:chOff x="3505320" y="1676520"/>
              <a:chExt cx="1676160" cy="2589480"/>
            </a:xfrm>
          </p:grpSpPr>
          <p:sp>
            <p:nvSpPr>
              <p:cNvPr id="548" name="椭圆 242691"/>
              <p:cNvSpPr/>
              <p:nvPr/>
            </p:nvSpPr>
            <p:spPr>
              <a:xfrm>
                <a:off x="3505320" y="1676520"/>
                <a:ext cx="1676160" cy="62748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组合 242692"/>
              <p:cNvGrpSpPr/>
              <p:nvPr/>
            </p:nvGrpSpPr>
            <p:grpSpPr>
              <a:xfrm>
                <a:off x="3505320" y="3638880"/>
                <a:ext cx="1676160" cy="627120"/>
                <a:chOff x="3505320" y="3638880"/>
                <a:chExt cx="1676160" cy="627120"/>
              </a:xfrm>
            </p:grpSpPr>
            <p:sp>
              <p:nvSpPr>
                <p:cNvPr id="550" name="椭圆 242693"/>
                <p:cNvSpPr/>
                <p:nvPr/>
              </p:nvSpPr>
              <p:spPr>
                <a:xfrm>
                  <a:off x="3505320" y="3638880"/>
                  <a:ext cx="1676160" cy="627120"/>
                </a:xfrm>
                <a:prstGeom prst="ellipse">
                  <a:avLst/>
                </a:prstGeom>
                <a:solidFill>
                  <a:srgbClr val="ffcc99"/>
                </a:solidFill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未知"/>
                <p:cNvSpPr/>
                <p:nvPr/>
              </p:nvSpPr>
              <p:spPr>
                <a:xfrm>
                  <a:off x="3505320" y="3907440"/>
                  <a:ext cx="1676160" cy="35856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0" y="36"/>
                      </a:lnTo>
                      <a:lnTo>
                        <a:pt x="12" y="60"/>
                      </a:lnTo>
                      <a:lnTo>
                        <a:pt x="36" y="90"/>
                      </a:lnTo>
                      <a:lnTo>
                        <a:pt x="51" y="96"/>
                      </a:lnTo>
                      <a:lnTo>
                        <a:pt x="99" y="123"/>
                      </a:lnTo>
                      <a:lnTo>
                        <a:pt x="174" y="150"/>
                      </a:lnTo>
                      <a:lnTo>
                        <a:pt x="312" y="177"/>
                      </a:lnTo>
                      <a:lnTo>
                        <a:pt x="408" y="186"/>
                      </a:lnTo>
                      <a:lnTo>
                        <a:pt x="513" y="192"/>
                      </a:lnTo>
                      <a:lnTo>
                        <a:pt x="615" y="189"/>
                      </a:lnTo>
                      <a:lnTo>
                        <a:pt x="714" y="183"/>
                      </a:lnTo>
                      <a:lnTo>
                        <a:pt x="768" y="174"/>
                      </a:lnTo>
                      <a:lnTo>
                        <a:pt x="888" y="147"/>
                      </a:lnTo>
                      <a:lnTo>
                        <a:pt x="975" y="114"/>
                      </a:lnTo>
                      <a:lnTo>
                        <a:pt x="1002" y="96"/>
                      </a:lnTo>
                      <a:lnTo>
                        <a:pt x="1044" y="60"/>
                      </a:lnTo>
                      <a:lnTo>
                        <a:pt x="1056" y="36"/>
                      </a:lnTo>
                      <a:lnTo>
                        <a:pt x="1056" y="1"/>
                      </a:lnTo>
                    </a:path>
                  </a:pathLst>
                </a:custGeom>
                <a:solidFill>
                  <a:srgbClr val="ffcc99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直接连接符 242695"/>
              <p:cNvSpPr/>
              <p:nvPr/>
            </p:nvSpPr>
            <p:spPr>
              <a:xfrm>
                <a:off x="5181480" y="1990440"/>
                <a:ext cx="0" cy="19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直接连接符 242696"/>
              <p:cNvSpPr/>
              <p:nvPr/>
            </p:nvSpPr>
            <p:spPr>
              <a:xfrm>
                <a:off x="3505320" y="1990440"/>
                <a:ext cx="0" cy="19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未知"/>
            <p:cNvSpPr/>
            <p:nvPr/>
          </p:nvSpPr>
          <p:spPr>
            <a:xfrm>
              <a:off x="3505320" y="1990440"/>
              <a:ext cx="1676160" cy="2273040"/>
            </a:xfrm>
            <a:custGeom>
              <a:avLst/>
              <a:gdLst/>
              <a:ahLst/>
              <a:rect l="l" t="t" r="r" b="b"/>
              <a:pathLst>
                <a:path w="1056" h="1390">
                  <a:moveTo>
                    <a:pt x="0" y="0"/>
                  </a:moveTo>
                  <a:lnTo>
                    <a:pt x="0" y="1200"/>
                  </a:lnTo>
                  <a:lnTo>
                    <a:pt x="20" y="1248"/>
                  </a:lnTo>
                  <a:lnTo>
                    <a:pt x="58" y="1292"/>
                  </a:lnTo>
                  <a:lnTo>
                    <a:pt x="112" y="1322"/>
                  </a:lnTo>
                  <a:lnTo>
                    <a:pt x="182" y="1348"/>
                  </a:lnTo>
                  <a:lnTo>
                    <a:pt x="256" y="1366"/>
                  </a:lnTo>
                  <a:lnTo>
                    <a:pt x="340" y="1380"/>
                  </a:lnTo>
                  <a:lnTo>
                    <a:pt x="418" y="1388"/>
                  </a:lnTo>
                  <a:lnTo>
                    <a:pt x="502" y="1388"/>
                  </a:lnTo>
                  <a:lnTo>
                    <a:pt x="574" y="1390"/>
                  </a:lnTo>
                  <a:lnTo>
                    <a:pt x="654" y="1384"/>
                  </a:lnTo>
                  <a:lnTo>
                    <a:pt x="742" y="1376"/>
                  </a:lnTo>
                  <a:lnTo>
                    <a:pt x="828" y="1358"/>
                  </a:lnTo>
                  <a:lnTo>
                    <a:pt x="900" y="1338"/>
                  </a:lnTo>
                  <a:lnTo>
                    <a:pt x="966" y="1310"/>
                  </a:lnTo>
                  <a:lnTo>
                    <a:pt x="998" y="1286"/>
                  </a:lnTo>
                  <a:lnTo>
                    <a:pt x="1022" y="1264"/>
                  </a:lnTo>
                  <a:lnTo>
                    <a:pt x="1048" y="1234"/>
                  </a:lnTo>
                  <a:lnTo>
                    <a:pt x="1056" y="1200"/>
                  </a:lnTo>
                  <a:lnTo>
                    <a:pt x="1056" y="0"/>
                  </a:lnTo>
                  <a:lnTo>
                    <a:pt x="1044" y="42"/>
                  </a:lnTo>
                  <a:lnTo>
                    <a:pt x="1026" y="62"/>
                  </a:lnTo>
                  <a:lnTo>
                    <a:pt x="1010" y="84"/>
                  </a:lnTo>
                  <a:lnTo>
                    <a:pt x="972" y="110"/>
                  </a:lnTo>
                  <a:lnTo>
                    <a:pt x="900" y="140"/>
                  </a:lnTo>
                  <a:lnTo>
                    <a:pt x="824" y="160"/>
                  </a:lnTo>
                  <a:lnTo>
                    <a:pt x="746" y="180"/>
                  </a:lnTo>
                  <a:lnTo>
                    <a:pt x="662" y="188"/>
                  </a:lnTo>
                  <a:lnTo>
                    <a:pt x="582" y="192"/>
                  </a:lnTo>
                  <a:lnTo>
                    <a:pt x="508" y="192"/>
                  </a:lnTo>
                  <a:lnTo>
                    <a:pt x="508" y="188"/>
                  </a:lnTo>
                  <a:lnTo>
                    <a:pt x="430" y="192"/>
                  </a:lnTo>
                  <a:lnTo>
                    <a:pt x="342" y="184"/>
                  </a:lnTo>
                  <a:lnTo>
                    <a:pt x="202" y="158"/>
                  </a:lnTo>
                  <a:lnTo>
                    <a:pt x="120" y="130"/>
                  </a:lnTo>
                  <a:lnTo>
                    <a:pt x="62" y="98"/>
                  </a:lnTo>
                  <a:lnTo>
                    <a:pt x="36" y="80"/>
                  </a:lnTo>
                  <a:lnTo>
                    <a:pt x="18" y="5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椭圆 242698"/>
            <p:cNvSpPr/>
            <p:nvPr/>
          </p:nvSpPr>
          <p:spPr>
            <a:xfrm>
              <a:off x="3657240" y="1755000"/>
              <a:ext cx="1371240" cy="47088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椭圆 242699"/>
            <p:cNvSpPr/>
            <p:nvPr/>
          </p:nvSpPr>
          <p:spPr>
            <a:xfrm>
              <a:off x="4114440" y="1911960"/>
              <a:ext cx="456840" cy="15660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3505320" y="214740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3505320" y="230436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3505320" y="371736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3505320" y="379584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3771720" y="3036960"/>
              <a:ext cx="1002960" cy="431640"/>
            </a:xfrm>
            <a:custGeom>
              <a:avLst/>
              <a:gdLst/>
              <a:ahLst/>
              <a:rect l="l" t="t" r="r" b="b"/>
              <a:pathLst>
                <a:path w="632" h="264">
                  <a:moveTo>
                    <a:pt x="40" y="80"/>
                  </a:moveTo>
                  <a:cubicBezTo>
                    <a:pt x="101" y="39"/>
                    <a:pt x="69" y="51"/>
                    <a:pt x="136" y="40"/>
                  </a:cubicBezTo>
                  <a:cubicBezTo>
                    <a:pt x="233" y="45"/>
                    <a:pt x="324" y="49"/>
                    <a:pt x="416" y="80"/>
                  </a:cubicBezTo>
                  <a:cubicBezTo>
                    <a:pt x="429" y="79"/>
                    <a:pt x="489" y="77"/>
                    <a:pt x="512" y="64"/>
                  </a:cubicBezTo>
                  <a:cubicBezTo>
                    <a:pt x="595" y="18"/>
                    <a:pt x="530" y="42"/>
                    <a:pt x="584" y="24"/>
                  </a:cubicBezTo>
                  <a:cubicBezTo>
                    <a:pt x="592" y="16"/>
                    <a:pt x="597" y="0"/>
                    <a:pt x="608" y="0"/>
                  </a:cubicBezTo>
                  <a:cubicBezTo>
                    <a:pt x="632" y="0"/>
                    <a:pt x="600" y="72"/>
                    <a:pt x="600" y="72"/>
                  </a:cubicBezTo>
                  <a:cubicBezTo>
                    <a:pt x="597" y="93"/>
                    <a:pt x="594" y="115"/>
                    <a:pt x="592" y="136"/>
                  </a:cubicBezTo>
                  <a:cubicBezTo>
                    <a:pt x="589" y="173"/>
                    <a:pt x="605" y="217"/>
                    <a:pt x="584" y="248"/>
                  </a:cubicBezTo>
                  <a:cubicBezTo>
                    <a:pt x="573" y="264"/>
                    <a:pt x="552" y="227"/>
                    <a:pt x="536" y="216"/>
                  </a:cubicBezTo>
                  <a:cubicBezTo>
                    <a:pt x="511" y="200"/>
                    <a:pt x="477" y="186"/>
                    <a:pt x="448" y="176"/>
                  </a:cubicBezTo>
                  <a:cubicBezTo>
                    <a:pt x="390" y="195"/>
                    <a:pt x="342" y="222"/>
                    <a:pt x="280" y="232"/>
                  </a:cubicBezTo>
                  <a:cubicBezTo>
                    <a:pt x="156" y="226"/>
                    <a:pt x="122" y="225"/>
                    <a:pt x="24" y="192"/>
                  </a:cubicBezTo>
                  <a:cubicBezTo>
                    <a:pt x="8" y="144"/>
                    <a:pt x="0" y="120"/>
                    <a:pt x="40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99cc00"/>
                </a:gs>
              </a:gsLst>
              <a:lin ang="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3852720" y="3193920"/>
              <a:ext cx="96480" cy="8496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29" y="0"/>
                  </a:moveTo>
                  <a:cubicBezTo>
                    <a:pt x="0" y="44"/>
                    <a:pt x="15" y="52"/>
                    <a:pt x="61" y="40"/>
                  </a:cubicBezTo>
                  <a:cubicBezTo>
                    <a:pt x="58" y="29"/>
                    <a:pt x="60" y="17"/>
                    <a:pt x="53" y="8"/>
                  </a:cubicBezTo>
                  <a:cubicBezTo>
                    <a:pt x="48" y="1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3974760" y="3141720"/>
              <a:ext cx="64800" cy="251640"/>
            </a:xfrm>
            <a:custGeom>
              <a:avLst/>
              <a:gdLst/>
              <a:ahLst/>
              <a:rect l="l" t="t" r="r" b="b"/>
              <a:pathLst>
                <a:path w="41" h="154">
                  <a:moveTo>
                    <a:pt x="24" y="0"/>
                  </a:moveTo>
                  <a:cubicBezTo>
                    <a:pt x="41" y="51"/>
                    <a:pt x="41" y="39"/>
                    <a:pt x="24" y="128"/>
                  </a:cubicBezTo>
                  <a:cubicBezTo>
                    <a:pt x="19" y="154"/>
                    <a:pt x="14" y="152"/>
                    <a:pt x="0" y="15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4076640" y="3049920"/>
              <a:ext cx="329760" cy="9144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0" y="24"/>
                  </a:moveTo>
                  <a:cubicBezTo>
                    <a:pt x="36" y="0"/>
                    <a:pt x="84" y="17"/>
                    <a:pt x="128" y="24"/>
                  </a:cubicBezTo>
                  <a:cubicBezTo>
                    <a:pt x="155" y="28"/>
                    <a:pt x="208" y="40"/>
                    <a:pt x="208" y="40"/>
                  </a:cubicBezTo>
                  <a:cubicBezTo>
                    <a:pt x="170" y="49"/>
                    <a:pt x="186" y="43"/>
                    <a:pt x="160" y="56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4036680" y="3390120"/>
              <a:ext cx="199800" cy="11304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33" y="8"/>
                  </a:moveTo>
                  <a:cubicBezTo>
                    <a:pt x="24" y="22"/>
                    <a:pt x="0" y="45"/>
                    <a:pt x="25" y="64"/>
                  </a:cubicBezTo>
                  <a:cubicBezTo>
                    <a:pt x="32" y="69"/>
                    <a:pt x="41" y="59"/>
                    <a:pt x="49" y="56"/>
                  </a:cubicBezTo>
                  <a:cubicBezTo>
                    <a:pt x="64" y="11"/>
                    <a:pt x="67" y="43"/>
                    <a:pt x="105" y="56"/>
                  </a:cubicBezTo>
                  <a:cubicBezTo>
                    <a:pt x="126" y="25"/>
                    <a:pt x="126" y="12"/>
                    <a:pt x="89" y="0"/>
                  </a:cubicBezTo>
                  <a:cubicBezTo>
                    <a:pt x="55" y="11"/>
                    <a:pt x="73" y="8"/>
                    <a:pt x="33" y="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4597200" y="3180960"/>
              <a:ext cx="159840" cy="184680"/>
            </a:xfrm>
            <a:custGeom>
              <a:avLst/>
              <a:gdLst/>
              <a:ahLst/>
              <a:rect l="l" t="t" r="r" b="b"/>
              <a:pathLst>
                <a:path w="101" h="113">
                  <a:moveTo>
                    <a:pt x="72" y="0"/>
                  </a:moveTo>
                  <a:cubicBezTo>
                    <a:pt x="48" y="16"/>
                    <a:pt x="24" y="24"/>
                    <a:pt x="0" y="40"/>
                  </a:cubicBezTo>
                  <a:cubicBezTo>
                    <a:pt x="57" y="59"/>
                    <a:pt x="62" y="47"/>
                    <a:pt x="24" y="72"/>
                  </a:cubicBezTo>
                  <a:cubicBezTo>
                    <a:pt x="27" y="80"/>
                    <a:pt x="25" y="91"/>
                    <a:pt x="32" y="96"/>
                  </a:cubicBezTo>
                  <a:cubicBezTo>
                    <a:pt x="56" y="113"/>
                    <a:pt x="101" y="112"/>
                    <a:pt x="72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242710"/>
          <p:cNvGrpSpPr/>
          <p:nvPr/>
        </p:nvGrpSpPr>
        <p:grpSpPr>
          <a:xfrm>
            <a:off x="4038480" y="3809880"/>
            <a:ext cx="835200" cy="1200240"/>
            <a:chOff x="4038480" y="3809880"/>
            <a:chExt cx="835200" cy="1200240"/>
          </a:xfrm>
        </p:grpSpPr>
        <p:sp>
          <p:nvSpPr>
            <p:cNvPr id="568" name="未知"/>
            <p:cNvSpPr/>
            <p:nvPr/>
          </p:nvSpPr>
          <p:spPr>
            <a:xfrm>
              <a:off x="4038480" y="3809880"/>
              <a:ext cx="596880" cy="1200240"/>
            </a:xfrm>
            <a:custGeom>
              <a:avLst/>
              <a:gdLst/>
              <a:ahLst/>
              <a:rect l="l" t="t" r="r" b="b"/>
              <a:pathLst>
                <a:path w="376" h="756">
                  <a:moveTo>
                    <a:pt x="187" y="342"/>
                  </a:moveTo>
                  <a:cubicBezTo>
                    <a:pt x="198" y="325"/>
                    <a:pt x="204" y="306"/>
                    <a:pt x="214" y="288"/>
                  </a:cubicBezTo>
                  <a:cubicBezTo>
                    <a:pt x="234" y="252"/>
                    <a:pt x="251" y="214"/>
                    <a:pt x="274" y="180"/>
                  </a:cubicBezTo>
                  <a:cubicBezTo>
                    <a:pt x="285" y="163"/>
                    <a:pt x="289" y="143"/>
                    <a:pt x="301" y="126"/>
                  </a:cubicBezTo>
                  <a:cubicBezTo>
                    <a:pt x="306" y="118"/>
                    <a:pt x="309" y="107"/>
                    <a:pt x="313" y="99"/>
                  </a:cubicBezTo>
                  <a:cubicBezTo>
                    <a:pt x="330" y="65"/>
                    <a:pt x="349" y="27"/>
                    <a:pt x="376" y="0"/>
                  </a:cubicBezTo>
                  <a:cubicBezTo>
                    <a:pt x="356" y="60"/>
                    <a:pt x="345" y="123"/>
                    <a:pt x="325" y="183"/>
                  </a:cubicBezTo>
                  <a:cubicBezTo>
                    <a:pt x="318" y="204"/>
                    <a:pt x="316" y="233"/>
                    <a:pt x="304" y="252"/>
                  </a:cubicBezTo>
                  <a:cubicBezTo>
                    <a:pt x="295" y="266"/>
                    <a:pt x="287" y="282"/>
                    <a:pt x="280" y="297"/>
                  </a:cubicBezTo>
                  <a:cubicBezTo>
                    <a:pt x="268" y="324"/>
                    <a:pt x="259" y="348"/>
                    <a:pt x="238" y="369"/>
                  </a:cubicBezTo>
                  <a:cubicBezTo>
                    <a:pt x="249" y="425"/>
                    <a:pt x="269" y="478"/>
                    <a:pt x="277" y="534"/>
                  </a:cubicBezTo>
                  <a:cubicBezTo>
                    <a:pt x="275" y="575"/>
                    <a:pt x="274" y="662"/>
                    <a:pt x="232" y="690"/>
                  </a:cubicBezTo>
                  <a:cubicBezTo>
                    <a:pt x="229" y="699"/>
                    <a:pt x="211" y="711"/>
                    <a:pt x="211" y="711"/>
                  </a:cubicBezTo>
                  <a:cubicBezTo>
                    <a:pt x="188" y="745"/>
                    <a:pt x="123" y="753"/>
                    <a:pt x="85" y="756"/>
                  </a:cubicBezTo>
                  <a:cubicBezTo>
                    <a:pt x="61" y="752"/>
                    <a:pt x="73" y="755"/>
                    <a:pt x="49" y="747"/>
                  </a:cubicBezTo>
                  <a:cubicBezTo>
                    <a:pt x="46" y="746"/>
                    <a:pt x="40" y="744"/>
                    <a:pt x="40" y="744"/>
                  </a:cubicBezTo>
                  <a:cubicBezTo>
                    <a:pt x="26" y="726"/>
                    <a:pt x="20" y="708"/>
                    <a:pt x="13" y="687"/>
                  </a:cubicBezTo>
                  <a:cubicBezTo>
                    <a:pt x="10" y="678"/>
                    <a:pt x="7" y="669"/>
                    <a:pt x="4" y="660"/>
                  </a:cubicBezTo>
                  <a:cubicBezTo>
                    <a:pt x="3" y="657"/>
                    <a:pt x="1" y="651"/>
                    <a:pt x="1" y="651"/>
                  </a:cubicBezTo>
                  <a:cubicBezTo>
                    <a:pt x="3" y="594"/>
                    <a:pt x="0" y="511"/>
                    <a:pt x="49" y="468"/>
                  </a:cubicBezTo>
                  <a:cubicBezTo>
                    <a:pt x="71" y="449"/>
                    <a:pt x="100" y="439"/>
                    <a:pt x="124" y="423"/>
                  </a:cubicBezTo>
                  <a:cubicBezTo>
                    <a:pt x="133" y="417"/>
                    <a:pt x="142" y="411"/>
                    <a:pt x="151" y="405"/>
                  </a:cubicBezTo>
                  <a:cubicBezTo>
                    <a:pt x="154" y="403"/>
                    <a:pt x="160" y="399"/>
                    <a:pt x="160" y="399"/>
                  </a:cubicBezTo>
                  <a:cubicBezTo>
                    <a:pt x="166" y="403"/>
                    <a:pt x="172" y="407"/>
                    <a:pt x="178" y="411"/>
                  </a:cubicBezTo>
                  <a:cubicBezTo>
                    <a:pt x="183" y="415"/>
                    <a:pt x="184" y="429"/>
                    <a:pt x="184" y="429"/>
                  </a:cubicBezTo>
                  <a:cubicBezTo>
                    <a:pt x="180" y="443"/>
                    <a:pt x="169" y="454"/>
                    <a:pt x="157" y="462"/>
                  </a:cubicBezTo>
                  <a:cubicBezTo>
                    <a:pt x="141" y="486"/>
                    <a:pt x="151" y="476"/>
                    <a:pt x="127" y="492"/>
                  </a:cubicBezTo>
                  <a:cubicBezTo>
                    <a:pt x="124" y="494"/>
                    <a:pt x="118" y="498"/>
                    <a:pt x="118" y="498"/>
                  </a:cubicBezTo>
                  <a:cubicBezTo>
                    <a:pt x="110" y="510"/>
                    <a:pt x="100" y="523"/>
                    <a:pt x="88" y="531"/>
                  </a:cubicBezTo>
                  <a:cubicBezTo>
                    <a:pt x="81" y="552"/>
                    <a:pt x="67" y="568"/>
                    <a:pt x="61" y="591"/>
                  </a:cubicBezTo>
                  <a:cubicBezTo>
                    <a:pt x="64" y="636"/>
                    <a:pt x="56" y="666"/>
                    <a:pt x="103" y="675"/>
                  </a:cubicBezTo>
                  <a:cubicBezTo>
                    <a:pt x="109" y="674"/>
                    <a:pt x="115" y="673"/>
                    <a:pt x="121" y="672"/>
                  </a:cubicBezTo>
                  <a:cubicBezTo>
                    <a:pt x="127" y="670"/>
                    <a:pt x="139" y="666"/>
                    <a:pt x="139" y="666"/>
                  </a:cubicBezTo>
                  <a:cubicBezTo>
                    <a:pt x="149" y="656"/>
                    <a:pt x="160" y="644"/>
                    <a:pt x="172" y="636"/>
                  </a:cubicBezTo>
                  <a:cubicBezTo>
                    <a:pt x="200" y="594"/>
                    <a:pt x="211" y="553"/>
                    <a:pt x="223" y="504"/>
                  </a:cubicBezTo>
                  <a:cubicBezTo>
                    <a:pt x="218" y="469"/>
                    <a:pt x="204" y="441"/>
                    <a:pt x="193" y="408"/>
                  </a:cubicBezTo>
                  <a:cubicBezTo>
                    <a:pt x="190" y="399"/>
                    <a:pt x="187" y="390"/>
                    <a:pt x="184" y="381"/>
                  </a:cubicBezTo>
                  <a:cubicBezTo>
                    <a:pt x="182" y="375"/>
                    <a:pt x="178" y="363"/>
                    <a:pt x="178" y="363"/>
                  </a:cubicBezTo>
                  <a:cubicBezTo>
                    <a:pt x="179" y="358"/>
                    <a:pt x="180" y="342"/>
                    <a:pt x="187" y="342"/>
                  </a:cubicBez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4259160" y="4122720"/>
              <a:ext cx="614520" cy="811080"/>
            </a:xfrm>
            <a:custGeom>
              <a:avLst/>
              <a:gdLst/>
              <a:ahLst/>
              <a:rect l="l" t="t" r="r" b="b"/>
              <a:pathLst>
                <a:path w="387" h="511">
                  <a:moveTo>
                    <a:pt x="0" y="91"/>
                  </a:moveTo>
                  <a:cubicBezTo>
                    <a:pt x="18" y="118"/>
                    <a:pt x="28" y="162"/>
                    <a:pt x="57" y="181"/>
                  </a:cubicBezTo>
                  <a:cubicBezTo>
                    <a:pt x="69" y="189"/>
                    <a:pt x="81" y="197"/>
                    <a:pt x="93" y="205"/>
                  </a:cubicBezTo>
                  <a:cubicBezTo>
                    <a:pt x="99" y="209"/>
                    <a:pt x="111" y="217"/>
                    <a:pt x="111" y="217"/>
                  </a:cubicBezTo>
                  <a:cubicBezTo>
                    <a:pt x="123" y="234"/>
                    <a:pt x="140" y="248"/>
                    <a:pt x="153" y="268"/>
                  </a:cubicBezTo>
                  <a:cubicBezTo>
                    <a:pt x="157" y="274"/>
                    <a:pt x="159" y="280"/>
                    <a:pt x="162" y="286"/>
                  </a:cubicBezTo>
                  <a:cubicBezTo>
                    <a:pt x="165" y="292"/>
                    <a:pt x="168" y="304"/>
                    <a:pt x="168" y="304"/>
                  </a:cubicBezTo>
                  <a:cubicBezTo>
                    <a:pt x="176" y="359"/>
                    <a:pt x="191" y="414"/>
                    <a:pt x="216" y="463"/>
                  </a:cubicBezTo>
                  <a:cubicBezTo>
                    <a:pt x="228" y="487"/>
                    <a:pt x="240" y="503"/>
                    <a:pt x="267" y="508"/>
                  </a:cubicBezTo>
                  <a:cubicBezTo>
                    <a:pt x="286" y="507"/>
                    <a:pt x="307" y="511"/>
                    <a:pt x="324" y="502"/>
                  </a:cubicBezTo>
                  <a:cubicBezTo>
                    <a:pt x="333" y="497"/>
                    <a:pt x="351" y="484"/>
                    <a:pt x="351" y="484"/>
                  </a:cubicBezTo>
                  <a:cubicBezTo>
                    <a:pt x="356" y="470"/>
                    <a:pt x="368" y="461"/>
                    <a:pt x="372" y="448"/>
                  </a:cubicBezTo>
                  <a:cubicBezTo>
                    <a:pt x="381" y="421"/>
                    <a:pt x="384" y="400"/>
                    <a:pt x="387" y="370"/>
                  </a:cubicBezTo>
                  <a:cubicBezTo>
                    <a:pt x="385" y="335"/>
                    <a:pt x="384" y="279"/>
                    <a:pt x="363" y="247"/>
                  </a:cubicBezTo>
                  <a:cubicBezTo>
                    <a:pt x="350" y="227"/>
                    <a:pt x="331" y="212"/>
                    <a:pt x="318" y="193"/>
                  </a:cubicBezTo>
                  <a:cubicBezTo>
                    <a:pt x="310" y="181"/>
                    <a:pt x="290" y="162"/>
                    <a:pt x="276" y="157"/>
                  </a:cubicBezTo>
                  <a:cubicBezTo>
                    <a:pt x="263" y="153"/>
                    <a:pt x="250" y="149"/>
                    <a:pt x="237" y="145"/>
                  </a:cubicBezTo>
                  <a:cubicBezTo>
                    <a:pt x="224" y="149"/>
                    <a:pt x="214" y="159"/>
                    <a:pt x="201" y="163"/>
                  </a:cubicBezTo>
                  <a:cubicBezTo>
                    <a:pt x="193" y="171"/>
                    <a:pt x="189" y="172"/>
                    <a:pt x="189" y="184"/>
                  </a:cubicBezTo>
                  <a:cubicBezTo>
                    <a:pt x="189" y="196"/>
                    <a:pt x="188" y="210"/>
                    <a:pt x="195" y="220"/>
                  </a:cubicBezTo>
                  <a:cubicBezTo>
                    <a:pt x="207" y="237"/>
                    <a:pt x="239" y="236"/>
                    <a:pt x="255" y="247"/>
                  </a:cubicBezTo>
                  <a:cubicBezTo>
                    <a:pt x="287" y="268"/>
                    <a:pt x="238" y="235"/>
                    <a:pt x="273" y="262"/>
                  </a:cubicBezTo>
                  <a:cubicBezTo>
                    <a:pt x="279" y="266"/>
                    <a:pt x="291" y="274"/>
                    <a:pt x="291" y="274"/>
                  </a:cubicBezTo>
                  <a:cubicBezTo>
                    <a:pt x="299" y="287"/>
                    <a:pt x="313" y="291"/>
                    <a:pt x="318" y="307"/>
                  </a:cubicBezTo>
                  <a:cubicBezTo>
                    <a:pt x="320" y="313"/>
                    <a:pt x="324" y="325"/>
                    <a:pt x="324" y="325"/>
                  </a:cubicBezTo>
                  <a:cubicBezTo>
                    <a:pt x="320" y="367"/>
                    <a:pt x="325" y="350"/>
                    <a:pt x="315" y="379"/>
                  </a:cubicBezTo>
                  <a:cubicBezTo>
                    <a:pt x="313" y="386"/>
                    <a:pt x="307" y="393"/>
                    <a:pt x="300" y="397"/>
                  </a:cubicBezTo>
                  <a:cubicBezTo>
                    <a:pt x="295" y="400"/>
                    <a:pt x="282" y="403"/>
                    <a:pt x="282" y="403"/>
                  </a:cubicBezTo>
                  <a:cubicBezTo>
                    <a:pt x="256" y="396"/>
                    <a:pt x="260" y="395"/>
                    <a:pt x="240" y="382"/>
                  </a:cubicBezTo>
                  <a:cubicBezTo>
                    <a:pt x="235" y="374"/>
                    <a:pt x="229" y="364"/>
                    <a:pt x="225" y="355"/>
                  </a:cubicBezTo>
                  <a:cubicBezTo>
                    <a:pt x="222" y="349"/>
                    <a:pt x="219" y="337"/>
                    <a:pt x="219" y="337"/>
                  </a:cubicBezTo>
                  <a:cubicBezTo>
                    <a:pt x="216" y="291"/>
                    <a:pt x="210" y="232"/>
                    <a:pt x="171" y="199"/>
                  </a:cubicBezTo>
                  <a:cubicBezTo>
                    <a:pt x="153" y="184"/>
                    <a:pt x="133" y="169"/>
                    <a:pt x="114" y="154"/>
                  </a:cubicBezTo>
                  <a:cubicBezTo>
                    <a:pt x="105" y="147"/>
                    <a:pt x="87" y="136"/>
                    <a:pt x="87" y="136"/>
                  </a:cubicBezTo>
                  <a:cubicBezTo>
                    <a:pt x="67" y="106"/>
                    <a:pt x="45" y="40"/>
                    <a:pt x="18" y="22"/>
                  </a:cubicBezTo>
                  <a:cubicBezTo>
                    <a:pt x="11" y="0"/>
                    <a:pt x="5" y="36"/>
                    <a:pt x="3" y="43"/>
                  </a:cubicBezTo>
                  <a:cubicBezTo>
                    <a:pt x="0" y="85"/>
                    <a:pt x="0" y="69"/>
                    <a:pt x="0" y="91"/>
                  </a:cubicBez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4349520" y="434340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1" y="9"/>
                  </a:moveTo>
                  <a:cubicBezTo>
                    <a:pt x="9" y="1"/>
                    <a:pt x="5" y="1"/>
                    <a:pt x="0" y="15"/>
                  </a:cubicBezTo>
                  <a:cubicBezTo>
                    <a:pt x="4" y="27"/>
                    <a:pt x="9" y="29"/>
                    <a:pt x="21" y="33"/>
                  </a:cubicBezTo>
                  <a:cubicBezTo>
                    <a:pt x="30" y="30"/>
                    <a:pt x="39" y="23"/>
                    <a:pt x="30" y="12"/>
                  </a:cubicBezTo>
                  <a:cubicBezTo>
                    <a:pt x="28" y="9"/>
                    <a:pt x="24" y="8"/>
                    <a:pt x="21" y="6"/>
                  </a:cubicBezTo>
                  <a:cubicBezTo>
                    <a:pt x="18" y="5"/>
                    <a:pt x="12" y="0"/>
                    <a:pt x="12" y="3"/>
                  </a:cubicBezTo>
                  <a:cubicBezTo>
                    <a:pt x="12" y="7"/>
                    <a:pt x="18" y="7"/>
                    <a:pt x="21" y="9"/>
                  </a:cubicBezTo>
                  <a:close/>
                </a:path>
              </a:pathLst>
            </a:cu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直接连接符 242714"/>
          <p:cNvSpPr/>
          <p:nvPr/>
        </p:nvSpPr>
        <p:spPr>
          <a:xfrm>
            <a:off x="4267080" y="2286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242715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243713"/>
          <p:cNvGrpSpPr/>
          <p:nvPr/>
        </p:nvGrpSpPr>
        <p:grpSpPr>
          <a:xfrm>
            <a:off x="3505320" y="1676520"/>
            <a:ext cx="1676160" cy="2589480"/>
            <a:chOff x="3505320" y="1676520"/>
            <a:chExt cx="1676160" cy="2589480"/>
          </a:xfrm>
        </p:grpSpPr>
        <p:grpSp>
          <p:nvGrpSpPr>
            <p:cNvPr id="574" name="组合 243714"/>
            <p:cNvGrpSpPr/>
            <p:nvPr/>
          </p:nvGrpSpPr>
          <p:grpSpPr>
            <a:xfrm>
              <a:off x="3505320" y="1676520"/>
              <a:ext cx="1676160" cy="2589480"/>
              <a:chOff x="3505320" y="1676520"/>
              <a:chExt cx="1676160" cy="2589480"/>
            </a:xfrm>
          </p:grpSpPr>
          <p:sp>
            <p:nvSpPr>
              <p:cNvPr id="575" name="椭圆 243715"/>
              <p:cNvSpPr/>
              <p:nvPr/>
            </p:nvSpPr>
            <p:spPr>
              <a:xfrm>
                <a:off x="3505320" y="1676520"/>
                <a:ext cx="1676160" cy="62748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" name="组合 243716"/>
              <p:cNvGrpSpPr/>
              <p:nvPr/>
            </p:nvGrpSpPr>
            <p:grpSpPr>
              <a:xfrm>
                <a:off x="3505320" y="3638880"/>
                <a:ext cx="1676160" cy="627120"/>
                <a:chOff x="3505320" y="3638880"/>
                <a:chExt cx="1676160" cy="627120"/>
              </a:xfrm>
            </p:grpSpPr>
            <p:sp>
              <p:nvSpPr>
                <p:cNvPr id="577" name="椭圆 243717"/>
                <p:cNvSpPr/>
                <p:nvPr/>
              </p:nvSpPr>
              <p:spPr>
                <a:xfrm>
                  <a:off x="3505320" y="3638880"/>
                  <a:ext cx="1676160" cy="627120"/>
                </a:xfrm>
                <a:prstGeom prst="ellipse">
                  <a:avLst/>
                </a:prstGeom>
                <a:solidFill>
                  <a:srgbClr val="ffcc99"/>
                </a:solidFill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未知"/>
                <p:cNvSpPr/>
                <p:nvPr/>
              </p:nvSpPr>
              <p:spPr>
                <a:xfrm>
                  <a:off x="3505320" y="3907440"/>
                  <a:ext cx="1676160" cy="35856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0" y="36"/>
                      </a:lnTo>
                      <a:lnTo>
                        <a:pt x="12" y="60"/>
                      </a:lnTo>
                      <a:lnTo>
                        <a:pt x="36" y="90"/>
                      </a:lnTo>
                      <a:lnTo>
                        <a:pt x="51" y="96"/>
                      </a:lnTo>
                      <a:lnTo>
                        <a:pt x="99" y="123"/>
                      </a:lnTo>
                      <a:lnTo>
                        <a:pt x="174" y="150"/>
                      </a:lnTo>
                      <a:lnTo>
                        <a:pt x="312" y="177"/>
                      </a:lnTo>
                      <a:lnTo>
                        <a:pt x="408" y="186"/>
                      </a:lnTo>
                      <a:lnTo>
                        <a:pt x="513" y="192"/>
                      </a:lnTo>
                      <a:lnTo>
                        <a:pt x="615" y="189"/>
                      </a:lnTo>
                      <a:lnTo>
                        <a:pt x="714" y="183"/>
                      </a:lnTo>
                      <a:lnTo>
                        <a:pt x="768" y="174"/>
                      </a:lnTo>
                      <a:lnTo>
                        <a:pt x="888" y="147"/>
                      </a:lnTo>
                      <a:lnTo>
                        <a:pt x="975" y="114"/>
                      </a:lnTo>
                      <a:lnTo>
                        <a:pt x="1002" y="96"/>
                      </a:lnTo>
                      <a:lnTo>
                        <a:pt x="1044" y="60"/>
                      </a:lnTo>
                      <a:lnTo>
                        <a:pt x="1056" y="36"/>
                      </a:lnTo>
                      <a:lnTo>
                        <a:pt x="1056" y="1"/>
                      </a:lnTo>
                    </a:path>
                  </a:pathLst>
                </a:custGeom>
                <a:solidFill>
                  <a:srgbClr val="ffcc99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直接连接符 243719"/>
              <p:cNvSpPr/>
              <p:nvPr/>
            </p:nvSpPr>
            <p:spPr>
              <a:xfrm>
                <a:off x="5181480" y="1990440"/>
                <a:ext cx="0" cy="19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直接连接符 243720"/>
              <p:cNvSpPr/>
              <p:nvPr/>
            </p:nvSpPr>
            <p:spPr>
              <a:xfrm>
                <a:off x="3505320" y="1990440"/>
                <a:ext cx="0" cy="19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未知"/>
            <p:cNvSpPr/>
            <p:nvPr/>
          </p:nvSpPr>
          <p:spPr>
            <a:xfrm>
              <a:off x="3505320" y="1990440"/>
              <a:ext cx="1676160" cy="2273040"/>
            </a:xfrm>
            <a:custGeom>
              <a:avLst/>
              <a:gdLst/>
              <a:ahLst/>
              <a:rect l="l" t="t" r="r" b="b"/>
              <a:pathLst>
                <a:path w="1056" h="1390">
                  <a:moveTo>
                    <a:pt x="0" y="0"/>
                  </a:moveTo>
                  <a:lnTo>
                    <a:pt x="0" y="1200"/>
                  </a:lnTo>
                  <a:lnTo>
                    <a:pt x="20" y="1248"/>
                  </a:lnTo>
                  <a:lnTo>
                    <a:pt x="58" y="1292"/>
                  </a:lnTo>
                  <a:lnTo>
                    <a:pt x="112" y="1322"/>
                  </a:lnTo>
                  <a:lnTo>
                    <a:pt x="182" y="1348"/>
                  </a:lnTo>
                  <a:lnTo>
                    <a:pt x="256" y="1366"/>
                  </a:lnTo>
                  <a:lnTo>
                    <a:pt x="340" y="1380"/>
                  </a:lnTo>
                  <a:lnTo>
                    <a:pt x="418" y="1388"/>
                  </a:lnTo>
                  <a:lnTo>
                    <a:pt x="502" y="1388"/>
                  </a:lnTo>
                  <a:lnTo>
                    <a:pt x="574" y="1390"/>
                  </a:lnTo>
                  <a:lnTo>
                    <a:pt x="654" y="1384"/>
                  </a:lnTo>
                  <a:lnTo>
                    <a:pt x="742" y="1376"/>
                  </a:lnTo>
                  <a:lnTo>
                    <a:pt x="828" y="1358"/>
                  </a:lnTo>
                  <a:lnTo>
                    <a:pt x="900" y="1338"/>
                  </a:lnTo>
                  <a:lnTo>
                    <a:pt x="966" y="1310"/>
                  </a:lnTo>
                  <a:lnTo>
                    <a:pt x="998" y="1286"/>
                  </a:lnTo>
                  <a:lnTo>
                    <a:pt x="1022" y="1264"/>
                  </a:lnTo>
                  <a:lnTo>
                    <a:pt x="1048" y="1234"/>
                  </a:lnTo>
                  <a:lnTo>
                    <a:pt x="1056" y="1200"/>
                  </a:lnTo>
                  <a:lnTo>
                    <a:pt x="1056" y="0"/>
                  </a:lnTo>
                  <a:lnTo>
                    <a:pt x="1044" y="42"/>
                  </a:lnTo>
                  <a:lnTo>
                    <a:pt x="1026" y="62"/>
                  </a:lnTo>
                  <a:lnTo>
                    <a:pt x="1010" y="84"/>
                  </a:lnTo>
                  <a:lnTo>
                    <a:pt x="972" y="110"/>
                  </a:lnTo>
                  <a:lnTo>
                    <a:pt x="900" y="140"/>
                  </a:lnTo>
                  <a:lnTo>
                    <a:pt x="824" y="160"/>
                  </a:lnTo>
                  <a:lnTo>
                    <a:pt x="746" y="180"/>
                  </a:lnTo>
                  <a:lnTo>
                    <a:pt x="662" y="188"/>
                  </a:lnTo>
                  <a:lnTo>
                    <a:pt x="582" y="192"/>
                  </a:lnTo>
                  <a:lnTo>
                    <a:pt x="508" y="192"/>
                  </a:lnTo>
                  <a:lnTo>
                    <a:pt x="508" y="188"/>
                  </a:lnTo>
                  <a:lnTo>
                    <a:pt x="430" y="192"/>
                  </a:lnTo>
                  <a:lnTo>
                    <a:pt x="342" y="184"/>
                  </a:lnTo>
                  <a:lnTo>
                    <a:pt x="202" y="158"/>
                  </a:lnTo>
                  <a:lnTo>
                    <a:pt x="120" y="130"/>
                  </a:lnTo>
                  <a:lnTo>
                    <a:pt x="62" y="98"/>
                  </a:lnTo>
                  <a:lnTo>
                    <a:pt x="36" y="80"/>
                  </a:lnTo>
                  <a:lnTo>
                    <a:pt x="18" y="5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243722"/>
            <p:cNvSpPr/>
            <p:nvPr/>
          </p:nvSpPr>
          <p:spPr>
            <a:xfrm>
              <a:off x="3657240" y="1755000"/>
              <a:ext cx="1371240" cy="47088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椭圆 243723"/>
            <p:cNvSpPr/>
            <p:nvPr/>
          </p:nvSpPr>
          <p:spPr>
            <a:xfrm>
              <a:off x="4114440" y="1911960"/>
              <a:ext cx="456840" cy="15660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3505320" y="214740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3505320" y="230436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3505320" y="371736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3505320" y="379584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3771720" y="3036960"/>
              <a:ext cx="1002960" cy="431640"/>
            </a:xfrm>
            <a:custGeom>
              <a:avLst/>
              <a:gdLst/>
              <a:ahLst/>
              <a:rect l="l" t="t" r="r" b="b"/>
              <a:pathLst>
                <a:path w="632" h="264">
                  <a:moveTo>
                    <a:pt x="40" y="80"/>
                  </a:moveTo>
                  <a:cubicBezTo>
                    <a:pt x="101" y="39"/>
                    <a:pt x="69" y="51"/>
                    <a:pt x="136" y="40"/>
                  </a:cubicBezTo>
                  <a:cubicBezTo>
                    <a:pt x="233" y="45"/>
                    <a:pt x="324" y="49"/>
                    <a:pt x="416" y="80"/>
                  </a:cubicBezTo>
                  <a:cubicBezTo>
                    <a:pt x="429" y="79"/>
                    <a:pt x="489" y="77"/>
                    <a:pt x="512" y="64"/>
                  </a:cubicBezTo>
                  <a:cubicBezTo>
                    <a:pt x="595" y="18"/>
                    <a:pt x="530" y="42"/>
                    <a:pt x="584" y="24"/>
                  </a:cubicBezTo>
                  <a:cubicBezTo>
                    <a:pt x="592" y="16"/>
                    <a:pt x="597" y="0"/>
                    <a:pt x="608" y="0"/>
                  </a:cubicBezTo>
                  <a:cubicBezTo>
                    <a:pt x="632" y="0"/>
                    <a:pt x="600" y="72"/>
                    <a:pt x="600" y="72"/>
                  </a:cubicBezTo>
                  <a:cubicBezTo>
                    <a:pt x="597" y="93"/>
                    <a:pt x="594" y="115"/>
                    <a:pt x="592" y="136"/>
                  </a:cubicBezTo>
                  <a:cubicBezTo>
                    <a:pt x="589" y="173"/>
                    <a:pt x="605" y="217"/>
                    <a:pt x="584" y="248"/>
                  </a:cubicBezTo>
                  <a:cubicBezTo>
                    <a:pt x="573" y="264"/>
                    <a:pt x="552" y="227"/>
                    <a:pt x="536" y="216"/>
                  </a:cubicBezTo>
                  <a:cubicBezTo>
                    <a:pt x="511" y="200"/>
                    <a:pt x="477" y="186"/>
                    <a:pt x="448" y="176"/>
                  </a:cubicBezTo>
                  <a:cubicBezTo>
                    <a:pt x="390" y="195"/>
                    <a:pt x="342" y="222"/>
                    <a:pt x="280" y="232"/>
                  </a:cubicBezTo>
                  <a:cubicBezTo>
                    <a:pt x="156" y="226"/>
                    <a:pt x="122" y="225"/>
                    <a:pt x="24" y="192"/>
                  </a:cubicBezTo>
                  <a:cubicBezTo>
                    <a:pt x="8" y="144"/>
                    <a:pt x="0" y="120"/>
                    <a:pt x="40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99cc00"/>
                </a:gs>
              </a:gsLst>
              <a:lin ang="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3852720" y="3193920"/>
              <a:ext cx="96480" cy="8496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29" y="0"/>
                  </a:moveTo>
                  <a:cubicBezTo>
                    <a:pt x="0" y="44"/>
                    <a:pt x="15" y="52"/>
                    <a:pt x="61" y="40"/>
                  </a:cubicBezTo>
                  <a:cubicBezTo>
                    <a:pt x="58" y="29"/>
                    <a:pt x="60" y="17"/>
                    <a:pt x="53" y="8"/>
                  </a:cubicBezTo>
                  <a:cubicBezTo>
                    <a:pt x="48" y="1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3974760" y="3141720"/>
              <a:ext cx="64800" cy="251640"/>
            </a:xfrm>
            <a:custGeom>
              <a:avLst/>
              <a:gdLst/>
              <a:ahLst/>
              <a:rect l="l" t="t" r="r" b="b"/>
              <a:pathLst>
                <a:path w="41" h="154">
                  <a:moveTo>
                    <a:pt x="24" y="0"/>
                  </a:moveTo>
                  <a:cubicBezTo>
                    <a:pt x="41" y="51"/>
                    <a:pt x="41" y="39"/>
                    <a:pt x="24" y="128"/>
                  </a:cubicBezTo>
                  <a:cubicBezTo>
                    <a:pt x="19" y="154"/>
                    <a:pt x="14" y="152"/>
                    <a:pt x="0" y="15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4076640" y="3049920"/>
              <a:ext cx="329760" cy="9144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0" y="24"/>
                  </a:moveTo>
                  <a:cubicBezTo>
                    <a:pt x="36" y="0"/>
                    <a:pt x="84" y="17"/>
                    <a:pt x="128" y="24"/>
                  </a:cubicBezTo>
                  <a:cubicBezTo>
                    <a:pt x="155" y="28"/>
                    <a:pt x="208" y="40"/>
                    <a:pt x="208" y="40"/>
                  </a:cubicBezTo>
                  <a:cubicBezTo>
                    <a:pt x="170" y="49"/>
                    <a:pt x="186" y="43"/>
                    <a:pt x="160" y="56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4036680" y="3390120"/>
              <a:ext cx="199800" cy="11304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33" y="8"/>
                  </a:moveTo>
                  <a:cubicBezTo>
                    <a:pt x="24" y="22"/>
                    <a:pt x="0" y="45"/>
                    <a:pt x="25" y="64"/>
                  </a:cubicBezTo>
                  <a:cubicBezTo>
                    <a:pt x="32" y="69"/>
                    <a:pt x="41" y="59"/>
                    <a:pt x="49" y="56"/>
                  </a:cubicBezTo>
                  <a:cubicBezTo>
                    <a:pt x="64" y="11"/>
                    <a:pt x="67" y="43"/>
                    <a:pt x="105" y="56"/>
                  </a:cubicBezTo>
                  <a:cubicBezTo>
                    <a:pt x="126" y="25"/>
                    <a:pt x="126" y="12"/>
                    <a:pt x="89" y="0"/>
                  </a:cubicBezTo>
                  <a:cubicBezTo>
                    <a:pt x="55" y="11"/>
                    <a:pt x="73" y="8"/>
                    <a:pt x="33" y="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4597200" y="3180960"/>
              <a:ext cx="159840" cy="184680"/>
            </a:xfrm>
            <a:custGeom>
              <a:avLst/>
              <a:gdLst/>
              <a:ahLst/>
              <a:rect l="l" t="t" r="r" b="b"/>
              <a:pathLst>
                <a:path w="101" h="113">
                  <a:moveTo>
                    <a:pt x="72" y="0"/>
                  </a:moveTo>
                  <a:cubicBezTo>
                    <a:pt x="48" y="16"/>
                    <a:pt x="24" y="24"/>
                    <a:pt x="0" y="40"/>
                  </a:cubicBezTo>
                  <a:cubicBezTo>
                    <a:pt x="57" y="59"/>
                    <a:pt x="62" y="47"/>
                    <a:pt x="24" y="72"/>
                  </a:cubicBezTo>
                  <a:cubicBezTo>
                    <a:pt x="27" y="80"/>
                    <a:pt x="25" y="91"/>
                    <a:pt x="32" y="96"/>
                  </a:cubicBezTo>
                  <a:cubicBezTo>
                    <a:pt x="56" y="113"/>
                    <a:pt x="101" y="112"/>
                    <a:pt x="72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直接连接符 243734"/>
          <p:cNvSpPr/>
          <p:nvPr/>
        </p:nvSpPr>
        <p:spPr>
          <a:xfrm>
            <a:off x="4267080" y="2286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3886200" y="2247840"/>
            <a:ext cx="874800" cy="2043000"/>
          </a:xfrm>
          <a:custGeom>
            <a:avLst/>
            <a:gdLst/>
            <a:ahLst/>
            <a:rect l="l" t="t" r="r" b="b"/>
            <a:pathLst>
              <a:path w="551" h="1287">
                <a:moveTo>
                  <a:pt x="45" y="18"/>
                </a:moveTo>
                <a:cubicBezTo>
                  <a:pt x="53" y="19"/>
                  <a:pt x="68" y="23"/>
                  <a:pt x="78" y="24"/>
                </a:cubicBezTo>
                <a:cubicBezTo>
                  <a:pt x="88" y="25"/>
                  <a:pt x="88" y="26"/>
                  <a:pt x="108" y="27"/>
                </a:cubicBezTo>
                <a:cubicBezTo>
                  <a:pt x="128" y="28"/>
                  <a:pt x="169" y="31"/>
                  <a:pt x="201" y="33"/>
                </a:cubicBezTo>
                <a:cubicBezTo>
                  <a:pt x="237" y="35"/>
                  <a:pt x="252" y="40"/>
                  <a:pt x="300" y="39"/>
                </a:cubicBezTo>
                <a:cubicBezTo>
                  <a:pt x="348" y="38"/>
                  <a:pt x="456" y="30"/>
                  <a:pt x="492" y="27"/>
                </a:cubicBezTo>
                <a:cubicBezTo>
                  <a:pt x="544" y="26"/>
                  <a:pt x="507" y="21"/>
                  <a:pt x="516" y="21"/>
                </a:cubicBezTo>
                <a:cubicBezTo>
                  <a:pt x="525" y="21"/>
                  <a:pt x="551" y="14"/>
                  <a:pt x="549" y="24"/>
                </a:cubicBezTo>
                <a:cubicBezTo>
                  <a:pt x="547" y="34"/>
                  <a:pt x="512" y="18"/>
                  <a:pt x="501" y="84"/>
                </a:cubicBezTo>
                <a:cubicBezTo>
                  <a:pt x="490" y="150"/>
                  <a:pt x="480" y="248"/>
                  <a:pt x="480" y="420"/>
                </a:cubicBezTo>
                <a:cubicBezTo>
                  <a:pt x="480" y="592"/>
                  <a:pt x="509" y="978"/>
                  <a:pt x="504" y="1119"/>
                </a:cubicBezTo>
                <a:cubicBezTo>
                  <a:pt x="499" y="1260"/>
                  <a:pt x="528" y="1244"/>
                  <a:pt x="450" y="1266"/>
                </a:cubicBezTo>
                <a:cubicBezTo>
                  <a:pt x="282" y="1287"/>
                  <a:pt x="166" y="1254"/>
                  <a:pt x="36" y="1254"/>
                </a:cubicBezTo>
                <a:lnTo>
                  <a:pt x="45" y="84"/>
                </a:lnTo>
                <a:lnTo>
                  <a:pt x="9" y="21"/>
                </a:lnTo>
                <a:lnTo>
                  <a:pt x="0" y="0"/>
                </a:lnTo>
                <a:lnTo>
                  <a:pt x="18" y="6"/>
                </a:lnTo>
                <a:lnTo>
                  <a:pt x="45" y="18"/>
                </a:lnTo>
                <a:close/>
              </a:path>
            </a:pathLst>
          </a:custGeom>
          <a:solidFill>
            <a:srgbClr val="c7ac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4648320" y="2286000"/>
            <a:ext cx="253800" cy="2276640"/>
          </a:xfrm>
          <a:custGeom>
            <a:avLst/>
            <a:gdLst/>
            <a:ahLst/>
            <a:rect l="l" t="t" r="r" b="b"/>
            <a:pathLst>
              <a:path w="160" h="1434">
                <a:moveTo>
                  <a:pt x="66" y="0"/>
                </a:moveTo>
                <a:cubicBezTo>
                  <a:pt x="62" y="6"/>
                  <a:pt x="59" y="13"/>
                  <a:pt x="54" y="18"/>
                </a:cubicBezTo>
                <a:cubicBezTo>
                  <a:pt x="49" y="23"/>
                  <a:pt x="40" y="24"/>
                  <a:pt x="36" y="30"/>
                </a:cubicBezTo>
                <a:cubicBezTo>
                  <a:pt x="29" y="41"/>
                  <a:pt x="24" y="66"/>
                  <a:pt x="24" y="66"/>
                </a:cubicBezTo>
                <a:cubicBezTo>
                  <a:pt x="26" y="78"/>
                  <a:pt x="25" y="115"/>
                  <a:pt x="42" y="126"/>
                </a:cubicBezTo>
                <a:cubicBezTo>
                  <a:pt x="58" y="136"/>
                  <a:pt x="121" y="156"/>
                  <a:pt x="144" y="156"/>
                </a:cubicBezTo>
                <a:cubicBezTo>
                  <a:pt x="148" y="568"/>
                  <a:pt x="160" y="980"/>
                  <a:pt x="156" y="1392"/>
                </a:cubicBezTo>
                <a:cubicBezTo>
                  <a:pt x="156" y="1434"/>
                  <a:pt x="30" y="1380"/>
                  <a:pt x="30" y="1380"/>
                </a:cubicBezTo>
                <a:cubicBezTo>
                  <a:pt x="1" y="1337"/>
                  <a:pt x="0" y="1316"/>
                  <a:pt x="0" y="1260"/>
                </a:cubicBezTo>
                <a:lnTo>
                  <a:pt x="12" y="48"/>
                </a:lnTo>
              </a:path>
            </a:pathLst>
          </a:custGeom>
          <a:solidFill>
            <a:srgbClr val="00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未知"/>
          <p:cNvSpPr/>
          <p:nvPr/>
        </p:nvSpPr>
        <p:spPr>
          <a:xfrm flipV="1" rot="10800000">
            <a:off x="3733560" y="2286000"/>
            <a:ext cx="253800" cy="2276640"/>
          </a:xfrm>
          <a:custGeom>
            <a:avLst/>
            <a:gdLst/>
            <a:ahLst/>
            <a:rect l="l" t="t" r="r" b="b"/>
            <a:pathLst>
              <a:path w="160" h="1434">
                <a:moveTo>
                  <a:pt x="66" y="0"/>
                </a:moveTo>
                <a:cubicBezTo>
                  <a:pt x="62" y="6"/>
                  <a:pt x="59" y="13"/>
                  <a:pt x="54" y="18"/>
                </a:cubicBezTo>
                <a:cubicBezTo>
                  <a:pt x="49" y="23"/>
                  <a:pt x="40" y="24"/>
                  <a:pt x="36" y="30"/>
                </a:cubicBezTo>
                <a:cubicBezTo>
                  <a:pt x="29" y="41"/>
                  <a:pt x="24" y="66"/>
                  <a:pt x="24" y="66"/>
                </a:cubicBezTo>
                <a:cubicBezTo>
                  <a:pt x="26" y="78"/>
                  <a:pt x="25" y="115"/>
                  <a:pt x="42" y="126"/>
                </a:cubicBezTo>
                <a:cubicBezTo>
                  <a:pt x="58" y="136"/>
                  <a:pt x="121" y="156"/>
                  <a:pt x="144" y="156"/>
                </a:cubicBezTo>
                <a:cubicBezTo>
                  <a:pt x="148" y="568"/>
                  <a:pt x="160" y="980"/>
                  <a:pt x="156" y="1392"/>
                </a:cubicBezTo>
                <a:cubicBezTo>
                  <a:pt x="156" y="1434"/>
                  <a:pt x="30" y="1380"/>
                  <a:pt x="30" y="1380"/>
                </a:cubicBezTo>
                <a:cubicBezTo>
                  <a:pt x="1" y="1337"/>
                  <a:pt x="0" y="1316"/>
                  <a:pt x="0" y="1260"/>
                </a:cubicBezTo>
                <a:lnTo>
                  <a:pt x="12" y="48"/>
                </a:lnTo>
              </a:path>
            </a:pathLst>
          </a:custGeom>
          <a:solidFill>
            <a:srgbClr val="6666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243738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44737"/>
          <p:cNvGrpSpPr/>
          <p:nvPr/>
        </p:nvGrpSpPr>
        <p:grpSpPr>
          <a:xfrm>
            <a:off x="3505320" y="1676520"/>
            <a:ext cx="1676160" cy="2589480"/>
            <a:chOff x="3505320" y="1676520"/>
            <a:chExt cx="1676160" cy="2589480"/>
          </a:xfrm>
        </p:grpSpPr>
        <p:grpSp>
          <p:nvGrpSpPr>
            <p:cNvPr id="600" name="组合 244738"/>
            <p:cNvGrpSpPr/>
            <p:nvPr/>
          </p:nvGrpSpPr>
          <p:grpSpPr>
            <a:xfrm>
              <a:off x="3505320" y="1676520"/>
              <a:ext cx="1676160" cy="2589480"/>
              <a:chOff x="3505320" y="1676520"/>
              <a:chExt cx="1676160" cy="2589480"/>
            </a:xfrm>
          </p:grpSpPr>
          <p:sp>
            <p:nvSpPr>
              <p:cNvPr id="601" name="椭圆 244739"/>
              <p:cNvSpPr/>
              <p:nvPr/>
            </p:nvSpPr>
            <p:spPr>
              <a:xfrm>
                <a:off x="3505320" y="1676520"/>
                <a:ext cx="1676160" cy="62748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2" name="组合 244740"/>
              <p:cNvGrpSpPr/>
              <p:nvPr/>
            </p:nvGrpSpPr>
            <p:grpSpPr>
              <a:xfrm>
                <a:off x="3505320" y="3638880"/>
                <a:ext cx="1676160" cy="627120"/>
                <a:chOff x="3505320" y="3638880"/>
                <a:chExt cx="1676160" cy="627120"/>
              </a:xfrm>
            </p:grpSpPr>
            <p:sp>
              <p:nvSpPr>
                <p:cNvPr id="603" name="椭圆 244741"/>
                <p:cNvSpPr/>
                <p:nvPr/>
              </p:nvSpPr>
              <p:spPr>
                <a:xfrm>
                  <a:off x="3505320" y="3638880"/>
                  <a:ext cx="1676160" cy="627120"/>
                </a:xfrm>
                <a:prstGeom prst="ellipse">
                  <a:avLst/>
                </a:prstGeom>
                <a:solidFill>
                  <a:srgbClr val="ffcc99"/>
                </a:solidFill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未知"/>
                <p:cNvSpPr/>
                <p:nvPr/>
              </p:nvSpPr>
              <p:spPr>
                <a:xfrm>
                  <a:off x="3505320" y="3907440"/>
                  <a:ext cx="1676160" cy="358560"/>
                </a:xfrm>
                <a:custGeom>
                  <a:avLst/>
                  <a:gdLst/>
                  <a:ahLst/>
                  <a:rect l="l" t="t" r="r" b="b"/>
                  <a:pathLst>
                    <a:path w="1056" h="192">
                      <a:moveTo>
                        <a:pt x="0" y="0"/>
                      </a:moveTo>
                      <a:lnTo>
                        <a:pt x="0" y="36"/>
                      </a:lnTo>
                      <a:lnTo>
                        <a:pt x="12" y="60"/>
                      </a:lnTo>
                      <a:lnTo>
                        <a:pt x="36" y="90"/>
                      </a:lnTo>
                      <a:lnTo>
                        <a:pt x="51" y="96"/>
                      </a:lnTo>
                      <a:lnTo>
                        <a:pt x="99" y="123"/>
                      </a:lnTo>
                      <a:lnTo>
                        <a:pt x="174" y="150"/>
                      </a:lnTo>
                      <a:lnTo>
                        <a:pt x="312" y="177"/>
                      </a:lnTo>
                      <a:lnTo>
                        <a:pt x="408" y="186"/>
                      </a:lnTo>
                      <a:lnTo>
                        <a:pt x="513" y="192"/>
                      </a:lnTo>
                      <a:lnTo>
                        <a:pt x="615" y="189"/>
                      </a:lnTo>
                      <a:lnTo>
                        <a:pt x="714" y="183"/>
                      </a:lnTo>
                      <a:lnTo>
                        <a:pt x="768" y="174"/>
                      </a:lnTo>
                      <a:lnTo>
                        <a:pt x="888" y="147"/>
                      </a:lnTo>
                      <a:lnTo>
                        <a:pt x="975" y="114"/>
                      </a:lnTo>
                      <a:lnTo>
                        <a:pt x="1002" y="96"/>
                      </a:lnTo>
                      <a:lnTo>
                        <a:pt x="1044" y="60"/>
                      </a:lnTo>
                      <a:lnTo>
                        <a:pt x="1056" y="36"/>
                      </a:lnTo>
                      <a:lnTo>
                        <a:pt x="1056" y="1"/>
                      </a:lnTo>
                    </a:path>
                  </a:pathLst>
                </a:custGeom>
                <a:solidFill>
                  <a:srgbClr val="ffcc99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直接连接符 244743"/>
              <p:cNvSpPr/>
              <p:nvPr/>
            </p:nvSpPr>
            <p:spPr>
              <a:xfrm>
                <a:off x="5181480" y="1990440"/>
                <a:ext cx="0" cy="19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直接连接符 244744"/>
              <p:cNvSpPr/>
              <p:nvPr/>
            </p:nvSpPr>
            <p:spPr>
              <a:xfrm>
                <a:off x="3505320" y="1990440"/>
                <a:ext cx="0" cy="196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7" name="未知"/>
            <p:cNvSpPr/>
            <p:nvPr/>
          </p:nvSpPr>
          <p:spPr>
            <a:xfrm>
              <a:off x="3505320" y="1990440"/>
              <a:ext cx="1676160" cy="2273040"/>
            </a:xfrm>
            <a:custGeom>
              <a:avLst/>
              <a:gdLst/>
              <a:ahLst/>
              <a:rect l="l" t="t" r="r" b="b"/>
              <a:pathLst>
                <a:path w="1056" h="1390">
                  <a:moveTo>
                    <a:pt x="0" y="0"/>
                  </a:moveTo>
                  <a:lnTo>
                    <a:pt x="0" y="1200"/>
                  </a:lnTo>
                  <a:lnTo>
                    <a:pt x="20" y="1248"/>
                  </a:lnTo>
                  <a:lnTo>
                    <a:pt x="58" y="1292"/>
                  </a:lnTo>
                  <a:lnTo>
                    <a:pt x="112" y="1322"/>
                  </a:lnTo>
                  <a:lnTo>
                    <a:pt x="182" y="1348"/>
                  </a:lnTo>
                  <a:lnTo>
                    <a:pt x="256" y="1366"/>
                  </a:lnTo>
                  <a:lnTo>
                    <a:pt x="340" y="1380"/>
                  </a:lnTo>
                  <a:lnTo>
                    <a:pt x="418" y="1388"/>
                  </a:lnTo>
                  <a:lnTo>
                    <a:pt x="502" y="1388"/>
                  </a:lnTo>
                  <a:lnTo>
                    <a:pt x="574" y="1390"/>
                  </a:lnTo>
                  <a:lnTo>
                    <a:pt x="654" y="1384"/>
                  </a:lnTo>
                  <a:lnTo>
                    <a:pt x="742" y="1376"/>
                  </a:lnTo>
                  <a:lnTo>
                    <a:pt x="828" y="1358"/>
                  </a:lnTo>
                  <a:lnTo>
                    <a:pt x="900" y="1338"/>
                  </a:lnTo>
                  <a:lnTo>
                    <a:pt x="966" y="1310"/>
                  </a:lnTo>
                  <a:lnTo>
                    <a:pt x="998" y="1286"/>
                  </a:lnTo>
                  <a:lnTo>
                    <a:pt x="1022" y="1264"/>
                  </a:lnTo>
                  <a:lnTo>
                    <a:pt x="1048" y="1234"/>
                  </a:lnTo>
                  <a:lnTo>
                    <a:pt x="1056" y="1200"/>
                  </a:lnTo>
                  <a:lnTo>
                    <a:pt x="1056" y="0"/>
                  </a:lnTo>
                  <a:lnTo>
                    <a:pt x="1044" y="42"/>
                  </a:lnTo>
                  <a:lnTo>
                    <a:pt x="1026" y="62"/>
                  </a:lnTo>
                  <a:lnTo>
                    <a:pt x="1010" y="84"/>
                  </a:lnTo>
                  <a:lnTo>
                    <a:pt x="972" y="110"/>
                  </a:lnTo>
                  <a:lnTo>
                    <a:pt x="900" y="140"/>
                  </a:lnTo>
                  <a:lnTo>
                    <a:pt x="824" y="160"/>
                  </a:lnTo>
                  <a:lnTo>
                    <a:pt x="746" y="180"/>
                  </a:lnTo>
                  <a:lnTo>
                    <a:pt x="662" y="188"/>
                  </a:lnTo>
                  <a:lnTo>
                    <a:pt x="582" y="192"/>
                  </a:lnTo>
                  <a:lnTo>
                    <a:pt x="508" y="192"/>
                  </a:lnTo>
                  <a:lnTo>
                    <a:pt x="508" y="188"/>
                  </a:lnTo>
                  <a:lnTo>
                    <a:pt x="430" y="192"/>
                  </a:lnTo>
                  <a:lnTo>
                    <a:pt x="342" y="184"/>
                  </a:lnTo>
                  <a:lnTo>
                    <a:pt x="202" y="158"/>
                  </a:lnTo>
                  <a:lnTo>
                    <a:pt x="120" y="130"/>
                  </a:lnTo>
                  <a:lnTo>
                    <a:pt x="62" y="98"/>
                  </a:lnTo>
                  <a:lnTo>
                    <a:pt x="36" y="80"/>
                  </a:lnTo>
                  <a:lnTo>
                    <a:pt x="18" y="5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椭圆 244746"/>
            <p:cNvSpPr/>
            <p:nvPr/>
          </p:nvSpPr>
          <p:spPr>
            <a:xfrm>
              <a:off x="3657240" y="1755000"/>
              <a:ext cx="1371240" cy="47088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椭圆 244747"/>
            <p:cNvSpPr/>
            <p:nvPr/>
          </p:nvSpPr>
          <p:spPr>
            <a:xfrm>
              <a:off x="4114440" y="1911960"/>
              <a:ext cx="456840" cy="15660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3505320" y="214740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3505320" y="230436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3505320" y="371736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3505320" y="3795840"/>
              <a:ext cx="1676160" cy="358200"/>
            </a:xfrm>
            <a:custGeom>
              <a:avLst/>
              <a:gdLst/>
              <a:ahLst/>
              <a:rect l="l" t="t" r="r" b="b"/>
              <a:pathLst>
                <a:path w="1056" h="192">
                  <a:moveTo>
                    <a:pt x="0" y="0"/>
                  </a:moveTo>
                  <a:lnTo>
                    <a:pt x="0" y="36"/>
                  </a:lnTo>
                  <a:lnTo>
                    <a:pt x="12" y="60"/>
                  </a:lnTo>
                  <a:lnTo>
                    <a:pt x="36" y="90"/>
                  </a:lnTo>
                  <a:lnTo>
                    <a:pt x="51" y="96"/>
                  </a:lnTo>
                  <a:lnTo>
                    <a:pt x="99" y="123"/>
                  </a:lnTo>
                  <a:lnTo>
                    <a:pt x="174" y="150"/>
                  </a:lnTo>
                  <a:lnTo>
                    <a:pt x="312" y="177"/>
                  </a:lnTo>
                  <a:lnTo>
                    <a:pt x="408" y="186"/>
                  </a:lnTo>
                  <a:lnTo>
                    <a:pt x="513" y="192"/>
                  </a:lnTo>
                  <a:lnTo>
                    <a:pt x="615" y="189"/>
                  </a:lnTo>
                  <a:lnTo>
                    <a:pt x="714" y="183"/>
                  </a:lnTo>
                  <a:lnTo>
                    <a:pt x="768" y="174"/>
                  </a:lnTo>
                  <a:lnTo>
                    <a:pt x="888" y="147"/>
                  </a:lnTo>
                  <a:lnTo>
                    <a:pt x="975" y="114"/>
                  </a:lnTo>
                  <a:lnTo>
                    <a:pt x="1002" y="96"/>
                  </a:lnTo>
                  <a:lnTo>
                    <a:pt x="1044" y="60"/>
                  </a:lnTo>
                  <a:lnTo>
                    <a:pt x="1056" y="36"/>
                  </a:lnTo>
                  <a:lnTo>
                    <a:pt x="1056" y="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3771720" y="3036960"/>
              <a:ext cx="1002960" cy="431640"/>
            </a:xfrm>
            <a:custGeom>
              <a:avLst/>
              <a:gdLst/>
              <a:ahLst/>
              <a:rect l="l" t="t" r="r" b="b"/>
              <a:pathLst>
                <a:path w="632" h="264">
                  <a:moveTo>
                    <a:pt x="40" y="80"/>
                  </a:moveTo>
                  <a:cubicBezTo>
                    <a:pt x="101" y="39"/>
                    <a:pt x="69" y="51"/>
                    <a:pt x="136" y="40"/>
                  </a:cubicBezTo>
                  <a:cubicBezTo>
                    <a:pt x="233" y="45"/>
                    <a:pt x="324" y="49"/>
                    <a:pt x="416" y="80"/>
                  </a:cubicBezTo>
                  <a:cubicBezTo>
                    <a:pt x="429" y="79"/>
                    <a:pt x="489" y="77"/>
                    <a:pt x="512" y="64"/>
                  </a:cubicBezTo>
                  <a:cubicBezTo>
                    <a:pt x="595" y="18"/>
                    <a:pt x="530" y="42"/>
                    <a:pt x="584" y="24"/>
                  </a:cubicBezTo>
                  <a:cubicBezTo>
                    <a:pt x="592" y="16"/>
                    <a:pt x="597" y="0"/>
                    <a:pt x="608" y="0"/>
                  </a:cubicBezTo>
                  <a:cubicBezTo>
                    <a:pt x="632" y="0"/>
                    <a:pt x="600" y="72"/>
                    <a:pt x="600" y="72"/>
                  </a:cubicBezTo>
                  <a:cubicBezTo>
                    <a:pt x="597" y="93"/>
                    <a:pt x="594" y="115"/>
                    <a:pt x="592" y="136"/>
                  </a:cubicBezTo>
                  <a:cubicBezTo>
                    <a:pt x="589" y="173"/>
                    <a:pt x="605" y="217"/>
                    <a:pt x="584" y="248"/>
                  </a:cubicBezTo>
                  <a:cubicBezTo>
                    <a:pt x="573" y="264"/>
                    <a:pt x="552" y="227"/>
                    <a:pt x="536" y="216"/>
                  </a:cubicBezTo>
                  <a:cubicBezTo>
                    <a:pt x="511" y="200"/>
                    <a:pt x="477" y="186"/>
                    <a:pt x="448" y="176"/>
                  </a:cubicBezTo>
                  <a:cubicBezTo>
                    <a:pt x="390" y="195"/>
                    <a:pt x="342" y="222"/>
                    <a:pt x="280" y="232"/>
                  </a:cubicBezTo>
                  <a:cubicBezTo>
                    <a:pt x="156" y="226"/>
                    <a:pt x="122" y="225"/>
                    <a:pt x="24" y="192"/>
                  </a:cubicBezTo>
                  <a:cubicBezTo>
                    <a:pt x="8" y="144"/>
                    <a:pt x="0" y="120"/>
                    <a:pt x="40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99cc00"/>
                </a:gs>
              </a:gsLst>
              <a:lin ang="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3852720" y="3193920"/>
              <a:ext cx="96480" cy="8496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29" y="0"/>
                  </a:moveTo>
                  <a:cubicBezTo>
                    <a:pt x="0" y="44"/>
                    <a:pt x="15" y="52"/>
                    <a:pt x="61" y="40"/>
                  </a:cubicBezTo>
                  <a:cubicBezTo>
                    <a:pt x="58" y="29"/>
                    <a:pt x="60" y="17"/>
                    <a:pt x="53" y="8"/>
                  </a:cubicBezTo>
                  <a:cubicBezTo>
                    <a:pt x="48" y="1"/>
                    <a:pt x="29" y="0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3974760" y="3141720"/>
              <a:ext cx="64800" cy="251640"/>
            </a:xfrm>
            <a:custGeom>
              <a:avLst/>
              <a:gdLst/>
              <a:ahLst/>
              <a:rect l="l" t="t" r="r" b="b"/>
              <a:pathLst>
                <a:path w="41" h="154">
                  <a:moveTo>
                    <a:pt x="24" y="0"/>
                  </a:moveTo>
                  <a:cubicBezTo>
                    <a:pt x="41" y="51"/>
                    <a:pt x="41" y="39"/>
                    <a:pt x="24" y="128"/>
                  </a:cubicBezTo>
                  <a:cubicBezTo>
                    <a:pt x="19" y="154"/>
                    <a:pt x="14" y="152"/>
                    <a:pt x="0" y="15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4076640" y="3049920"/>
              <a:ext cx="329760" cy="91440"/>
            </a:xfrm>
            <a:custGeom>
              <a:avLst/>
              <a:gdLst/>
              <a:ahLst/>
              <a:rect l="l" t="t" r="r" b="b"/>
              <a:pathLst>
                <a:path w="208" h="56">
                  <a:moveTo>
                    <a:pt x="0" y="24"/>
                  </a:moveTo>
                  <a:cubicBezTo>
                    <a:pt x="36" y="0"/>
                    <a:pt x="84" y="17"/>
                    <a:pt x="128" y="24"/>
                  </a:cubicBezTo>
                  <a:cubicBezTo>
                    <a:pt x="155" y="28"/>
                    <a:pt x="208" y="40"/>
                    <a:pt x="208" y="40"/>
                  </a:cubicBezTo>
                  <a:cubicBezTo>
                    <a:pt x="170" y="49"/>
                    <a:pt x="186" y="43"/>
                    <a:pt x="160" y="56"/>
                  </a:cubicBez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4036680" y="3390120"/>
              <a:ext cx="199800" cy="11304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33" y="8"/>
                  </a:moveTo>
                  <a:cubicBezTo>
                    <a:pt x="24" y="22"/>
                    <a:pt x="0" y="45"/>
                    <a:pt x="25" y="64"/>
                  </a:cubicBezTo>
                  <a:cubicBezTo>
                    <a:pt x="32" y="69"/>
                    <a:pt x="41" y="59"/>
                    <a:pt x="49" y="56"/>
                  </a:cubicBezTo>
                  <a:cubicBezTo>
                    <a:pt x="64" y="11"/>
                    <a:pt x="67" y="43"/>
                    <a:pt x="105" y="56"/>
                  </a:cubicBezTo>
                  <a:cubicBezTo>
                    <a:pt x="126" y="25"/>
                    <a:pt x="126" y="12"/>
                    <a:pt x="89" y="0"/>
                  </a:cubicBezTo>
                  <a:cubicBezTo>
                    <a:pt x="55" y="11"/>
                    <a:pt x="73" y="8"/>
                    <a:pt x="33" y="8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4597200" y="3180960"/>
              <a:ext cx="159840" cy="184680"/>
            </a:xfrm>
            <a:custGeom>
              <a:avLst/>
              <a:gdLst/>
              <a:ahLst/>
              <a:rect l="l" t="t" r="r" b="b"/>
              <a:pathLst>
                <a:path w="101" h="113">
                  <a:moveTo>
                    <a:pt x="72" y="0"/>
                  </a:moveTo>
                  <a:cubicBezTo>
                    <a:pt x="48" y="16"/>
                    <a:pt x="24" y="24"/>
                    <a:pt x="0" y="40"/>
                  </a:cubicBezTo>
                  <a:cubicBezTo>
                    <a:pt x="57" y="59"/>
                    <a:pt x="62" y="47"/>
                    <a:pt x="24" y="72"/>
                  </a:cubicBezTo>
                  <a:cubicBezTo>
                    <a:pt x="27" y="80"/>
                    <a:pt x="25" y="91"/>
                    <a:pt x="32" y="96"/>
                  </a:cubicBezTo>
                  <a:cubicBezTo>
                    <a:pt x="56" y="113"/>
                    <a:pt x="101" y="112"/>
                    <a:pt x="72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直接连接符 244758"/>
          <p:cNvSpPr/>
          <p:nvPr/>
        </p:nvSpPr>
        <p:spPr>
          <a:xfrm>
            <a:off x="4267080" y="22860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未知"/>
          <p:cNvSpPr/>
          <p:nvPr/>
        </p:nvSpPr>
        <p:spPr>
          <a:xfrm>
            <a:off x="5018040" y="2209680"/>
            <a:ext cx="773280" cy="2028960"/>
          </a:xfrm>
          <a:custGeom>
            <a:avLst/>
            <a:gdLst/>
            <a:ahLst/>
            <a:rect l="l" t="t" r="r" b="b"/>
            <a:pathLst>
              <a:path w="487" h="1278">
                <a:moveTo>
                  <a:pt x="7" y="0"/>
                </a:moveTo>
                <a:cubicBezTo>
                  <a:pt x="16" y="27"/>
                  <a:pt x="32" y="84"/>
                  <a:pt x="54" y="100"/>
                </a:cubicBezTo>
                <a:cubicBezTo>
                  <a:pt x="99" y="132"/>
                  <a:pt x="180" y="140"/>
                  <a:pt x="228" y="146"/>
                </a:cubicBezTo>
                <a:cubicBezTo>
                  <a:pt x="278" y="151"/>
                  <a:pt x="326" y="146"/>
                  <a:pt x="358" y="143"/>
                </a:cubicBezTo>
                <a:cubicBezTo>
                  <a:pt x="391" y="140"/>
                  <a:pt x="410" y="127"/>
                  <a:pt x="426" y="128"/>
                </a:cubicBezTo>
                <a:cubicBezTo>
                  <a:pt x="460" y="128"/>
                  <a:pt x="446" y="67"/>
                  <a:pt x="454" y="152"/>
                </a:cubicBezTo>
                <a:cubicBezTo>
                  <a:pt x="461" y="197"/>
                  <a:pt x="464" y="335"/>
                  <a:pt x="467" y="401"/>
                </a:cubicBezTo>
                <a:cubicBezTo>
                  <a:pt x="471" y="467"/>
                  <a:pt x="473" y="520"/>
                  <a:pt x="475" y="551"/>
                </a:cubicBezTo>
                <a:cubicBezTo>
                  <a:pt x="477" y="582"/>
                  <a:pt x="478" y="576"/>
                  <a:pt x="478" y="590"/>
                </a:cubicBezTo>
                <a:cubicBezTo>
                  <a:pt x="478" y="604"/>
                  <a:pt x="477" y="547"/>
                  <a:pt x="478" y="638"/>
                </a:cubicBezTo>
                <a:cubicBezTo>
                  <a:pt x="478" y="729"/>
                  <a:pt x="483" y="1052"/>
                  <a:pt x="483" y="1139"/>
                </a:cubicBezTo>
                <a:cubicBezTo>
                  <a:pt x="483" y="1226"/>
                  <a:pt x="480" y="1152"/>
                  <a:pt x="480" y="1160"/>
                </a:cubicBezTo>
                <a:cubicBezTo>
                  <a:pt x="480" y="1168"/>
                  <a:pt x="483" y="1180"/>
                  <a:pt x="483" y="1190"/>
                </a:cubicBezTo>
                <a:cubicBezTo>
                  <a:pt x="483" y="1200"/>
                  <a:pt x="483" y="1212"/>
                  <a:pt x="483" y="1220"/>
                </a:cubicBezTo>
                <a:cubicBezTo>
                  <a:pt x="483" y="1228"/>
                  <a:pt x="485" y="1235"/>
                  <a:pt x="485" y="1241"/>
                </a:cubicBezTo>
                <a:cubicBezTo>
                  <a:pt x="485" y="1247"/>
                  <a:pt x="487" y="1252"/>
                  <a:pt x="483" y="1256"/>
                </a:cubicBezTo>
                <a:cubicBezTo>
                  <a:pt x="478" y="1260"/>
                  <a:pt x="478" y="1262"/>
                  <a:pt x="459" y="1265"/>
                </a:cubicBezTo>
                <a:cubicBezTo>
                  <a:pt x="440" y="1268"/>
                  <a:pt x="389" y="1272"/>
                  <a:pt x="366" y="1274"/>
                </a:cubicBezTo>
                <a:cubicBezTo>
                  <a:pt x="343" y="1276"/>
                  <a:pt x="339" y="1278"/>
                  <a:pt x="320" y="1277"/>
                </a:cubicBezTo>
                <a:cubicBezTo>
                  <a:pt x="301" y="1276"/>
                  <a:pt x="272" y="1273"/>
                  <a:pt x="252" y="1270"/>
                </a:cubicBezTo>
                <a:cubicBezTo>
                  <a:pt x="231" y="1266"/>
                  <a:pt x="215" y="1264"/>
                  <a:pt x="198" y="1259"/>
                </a:cubicBezTo>
                <a:cubicBezTo>
                  <a:pt x="181" y="1254"/>
                  <a:pt x="162" y="1246"/>
                  <a:pt x="146" y="1241"/>
                </a:cubicBezTo>
                <a:cubicBezTo>
                  <a:pt x="130" y="1235"/>
                  <a:pt x="102" y="1226"/>
                  <a:pt x="102" y="1226"/>
                </a:cubicBezTo>
                <a:cubicBezTo>
                  <a:pt x="97" y="1220"/>
                  <a:pt x="89" y="1220"/>
                  <a:pt x="86" y="1214"/>
                </a:cubicBezTo>
                <a:cubicBezTo>
                  <a:pt x="73" y="1217"/>
                  <a:pt x="21" y="1213"/>
                  <a:pt x="13" y="1188"/>
                </a:cubicBezTo>
                <a:cubicBezTo>
                  <a:pt x="0" y="1161"/>
                  <a:pt x="8" y="1248"/>
                  <a:pt x="7" y="1050"/>
                </a:cubicBezTo>
                <a:lnTo>
                  <a:pt x="7" y="0"/>
                </a:lnTo>
                <a:close/>
              </a:path>
            </a:pathLst>
          </a:custGeom>
          <a:solidFill>
            <a:srgbClr val="00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未知"/>
          <p:cNvSpPr/>
          <p:nvPr/>
        </p:nvSpPr>
        <p:spPr>
          <a:xfrm>
            <a:off x="2971800" y="2130480"/>
            <a:ext cx="762120" cy="2136600"/>
          </a:xfrm>
          <a:custGeom>
            <a:avLst/>
            <a:gdLst/>
            <a:ahLst/>
            <a:rect l="l" t="t" r="r" b="b"/>
            <a:pathLst>
              <a:path w="480" h="1346">
                <a:moveTo>
                  <a:pt x="480" y="50"/>
                </a:moveTo>
                <a:cubicBezTo>
                  <a:pt x="477" y="0"/>
                  <a:pt x="464" y="99"/>
                  <a:pt x="456" y="116"/>
                </a:cubicBezTo>
                <a:cubicBezTo>
                  <a:pt x="448" y="133"/>
                  <a:pt x="466" y="137"/>
                  <a:pt x="433" y="151"/>
                </a:cubicBezTo>
                <a:cubicBezTo>
                  <a:pt x="387" y="184"/>
                  <a:pt x="307" y="192"/>
                  <a:pt x="259" y="198"/>
                </a:cubicBezTo>
                <a:cubicBezTo>
                  <a:pt x="209" y="203"/>
                  <a:pt x="162" y="198"/>
                  <a:pt x="128" y="195"/>
                </a:cubicBezTo>
                <a:cubicBezTo>
                  <a:pt x="95" y="192"/>
                  <a:pt x="77" y="179"/>
                  <a:pt x="61" y="180"/>
                </a:cubicBezTo>
                <a:cubicBezTo>
                  <a:pt x="26" y="180"/>
                  <a:pt x="42" y="118"/>
                  <a:pt x="33" y="204"/>
                </a:cubicBezTo>
                <a:cubicBezTo>
                  <a:pt x="25" y="250"/>
                  <a:pt x="24" y="390"/>
                  <a:pt x="20" y="457"/>
                </a:cubicBezTo>
                <a:cubicBezTo>
                  <a:pt x="16" y="524"/>
                  <a:pt x="14" y="577"/>
                  <a:pt x="12" y="609"/>
                </a:cubicBezTo>
                <a:cubicBezTo>
                  <a:pt x="10" y="640"/>
                  <a:pt x="9" y="634"/>
                  <a:pt x="9" y="648"/>
                </a:cubicBezTo>
                <a:cubicBezTo>
                  <a:pt x="9" y="663"/>
                  <a:pt x="10" y="605"/>
                  <a:pt x="9" y="697"/>
                </a:cubicBezTo>
                <a:cubicBezTo>
                  <a:pt x="8" y="789"/>
                  <a:pt x="5" y="1117"/>
                  <a:pt x="5" y="1205"/>
                </a:cubicBezTo>
                <a:cubicBezTo>
                  <a:pt x="5" y="1293"/>
                  <a:pt x="7" y="1218"/>
                  <a:pt x="7" y="1226"/>
                </a:cubicBezTo>
                <a:cubicBezTo>
                  <a:pt x="7" y="1234"/>
                  <a:pt x="5" y="1247"/>
                  <a:pt x="5" y="1257"/>
                </a:cubicBezTo>
                <a:cubicBezTo>
                  <a:pt x="5" y="1267"/>
                  <a:pt x="5" y="1279"/>
                  <a:pt x="5" y="1287"/>
                </a:cubicBezTo>
                <a:cubicBezTo>
                  <a:pt x="5" y="1295"/>
                  <a:pt x="2" y="1302"/>
                  <a:pt x="2" y="1308"/>
                </a:cubicBezTo>
                <a:cubicBezTo>
                  <a:pt x="2" y="1315"/>
                  <a:pt x="0" y="1320"/>
                  <a:pt x="5" y="1324"/>
                </a:cubicBezTo>
                <a:cubicBezTo>
                  <a:pt x="8" y="1328"/>
                  <a:pt x="8" y="1330"/>
                  <a:pt x="27" y="1333"/>
                </a:cubicBezTo>
                <a:cubicBezTo>
                  <a:pt x="46" y="1336"/>
                  <a:pt x="97" y="1340"/>
                  <a:pt x="121" y="1342"/>
                </a:cubicBezTo>
                <a:cubicBezTo>
                  <a:pt x="145" y="1344"/>
                  <a:pt x="148" y="1346"/>
                  <a:pt x="167" y="1345"/>
                </a:cubicBezTo>
                <a:cubicBezTo>
                  <a:pt x="186" y="1344"/>
                  <a:pt x="215" y="1341"/>
                  <a:pt x="235" y="1338"/>
                </a:cubicBezTo>
                <a:cubicBezTo>
                  <a:pt x="255" y="1334"/>
                  <a:pt x="272" y="1332"/>
                  <a:pt x="289" y="1327"/>
                </a:cubicBezTo>
                <a:cubicBezTo>
                  <a:pt x="306" y="1322"/>
                  <a:pt x="321" y="1317"/>
                  <a:pt x="341" y="1308"/>
                </a:cubicBezTo>
                <a:cubicBezTo>
                  <a:pt x="356" y="1302"/>
                  <a:pt x="409" y="1279"/>
                  <a:pt x="409" y="1279"/>
                </a:cubicBezTo>
                <a:cubicBezTo>
                  <a:pt x="414" y="1273"/>
                  <a:pt x="398" y="1287"/>
                  <a:pt x="401" y="1281"/>
                </a:cubicBezTo>
                <a:cubicBezTo>
                  <a:pt x="414" y="1284"/>
                  <a:pt x="455" y="1280"/>
                  <a:pt x="464" y="1255"/>
                </a:cubicBezTo>
                <a:cubicBezTo>
                  <a:pt x="475" y="1228"/>
                  <a:pt x="473" y="1261"/>
                  <a:pt x="475" y="1121"/>
                </a:cubicBezTo>
                <a:lnTo>
                  <a:pt x="474" y="416"/>
                </a:lnTo>
                <a:lnTo>
                  <a:pt x="480" y="50"/>
                </a:lnTo>
                <a:close/>
              </a:path>
            </a:pathLst>
          </a:custGeom>
          <a:solidFill>
            <a:srgbClr val="00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未知"/>
          <p:cNvSpPr/>
          <p:nvPr/>
        </p:nvSpPr>
        <p:spPr>
          <a:xfrm>
            <a:off x="3695760" y="2179800"/>
            <a:ext cx="1336680" cy="2087280"/>
          </a:xfrm>
          <a:custGeom>
            <a:avLst/>
            <a:gdLst/>
            <a:ahLst/>
            <a:rect l="l" t="t" r="r" b="b"/>
            <a:pathLst>
              <a:path w="842" h="1315">
                <a:moveTo>
                  <a:pt x="0" y="7"/>
                </a:moveTo>
                <a:cubicBezTo>
                  <a:pt x="100" y="73"/>
                  <a:pt x="238" y="74"/>
                  <a:pt x="354" y="91"/>
                </a:cubicBezTo>
                <a:cubicBezTo>
                  <a:pt x="454" y="83"/>
                  <a:pt x="553" y="68"/>
                  <a:pt x="654" y="61"/>
                </a:cubicBezTo>
                <a:cubicBezTo>
                  <a:pt x="697" y="52"/>
                  <a:pt x="738" y="39"/>
                  <a:pt x="780" y="25"/>
                </a:cubicBezTo>
                <a:cubicBezTo>
                  <a:pt x="789" y="22"/>
                  <a:pt x="834" y="0"/>
                  <a:pt x="834" y="1"/>
                </a:cubicBezTo>
                <a:cubicBezTo>
                  <a:pt x="840" y="9"/>
                  <a:pt x="834" y="21"/>
                  <a:pt x="834" y="31"/>
                </a:cubicBezTo>
                <a:cubicBezTo>
                  <a:pt x="836" y="427"/>
                  <a:pt x="842" y="823"/>
                  <a:pt x="840" y="1219"/>
                </a:cubicBezTo>
                <a:cubicBezTo>
                  <a:pt x="840" y="1236"/>
                  <a:pt x="780" y="1263"/>
                  <a:pt x="774" y="1267"/>
                </a:cubicBezTo>
                <a:cubicBezTo>
                  <a:pt x="714" y="1307"/>
                  <a:pt x="608" y="1307"/>
                  <a:pt x="540" y="1315"/>
                </a:cubicBezTo>
                <a:cubicBezTo>
                  <a:pt x="262" y="1310"/>
                  <a:pt x="278" y="1311"/>
                  <a:pt x="96" y="1285"/>
                </a:cubicBezTo>
                <a:cubicBezTo>
                  <a:pt x="78" y="1279"/>
                  <a:pt x="60" y="1273"/>
                  <a:pt x="42" y="1267"/>
                </a:cubicBezTo>
                <a:cubicBezTo>
                  <a:pt x="36" y="1265"/>
                  <a:pt x="24" y="1261"/>
                  <a:pt x="24" y="1261"/>
                </a:cubicBezTo>
                <a:cubicBezTo>
                  <a:pt x="16" y="1221"/>
                  <a:pt x="18" y="1241"/>
                  <a:pt x="18" y="1201"/>
                </a:cubicBezTo>
                <a:cubicBezTo>
                  <a:pt x="27" y="1054"/>
                  <a:pt x="33" y="590"/>
                  <a:pt x="30" y="391"/>
                </a:cubicBezTo>
                <a:cubicBezTo>
                  <a:pt x="27" y="192"/>
                  <a:pt x="6" y="87"/>
                  <a:pt x="0" y="7"/>
                </a:cubicBezTo>
                <a:close/>
              </a:path>
            </a:pathLst>
          </a:custGeom>
          <a:solidFill>
            <a:srgbClr val="c7ac81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244762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245761"/>
          <p:cNvSpPr/>
          <p:nvPr/>
        </p:nvSpPr>
        <p:spPr>
          <a:xfrm>
            <a:off x="1371600" y="1676520"/>
            <a:ext cx="5791320" cy="19810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椭圆 245762"/>
          <p:cNvSpPr/>
          <p:nvPr/>
        </p:nvSpPr>
        <p:spPr>
          <a:xfrm>
            <a:off x="3505320" y="1676520"/>
            <a:ext cx="1676160" cy="6285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椭圆 245763"/>
          <p:cNvSpPr/>
          <p:nvPr/>
        </p:nvSpPr>
        <p:spPr>
          <a:xfrm>
            <a:off x="3505320" y="3638520"/>
            <a:ext cx="1676160" cy="6285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椭圆 245764"/>
          <p:cNvSpPr/>
          <p:nvPr/>
        </p:nvSpPr>
        <p:spPr>
          <a:xfrm>
            <a:off x="3657600" y="1754280"/>
            <a:ext cx="1371600" cy="4712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245765"/>
          <p:cNvSpPr/>
          <p:nvPr/>
        </p:nvSpPr>
        <p:spPr>
          <a:xfrm>
            <a:off x="4114800" y="1911240"/>
            <a:ext cx="457200" cy="1573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45766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246785"/>
          <p:cNvSpPr/>
          <p:nvPr/>
        </p:nvSpPr>
        <p:spPr>
          <a:xfrm>
            <a:off x="1371600" y="1676520"/>
            <a:ext cx="5791320" cy="19810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246786"/>
          <p:cNvSpPr/>
          <p:nvPr/>
        </p:nvSpPr>
        <p:spPr>
          <a:xfrm>
            <a:off x="3505320" y="3638520"/>
            <a:ext cx="1676160" cy="10098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246787"/>
          <p:cNvSpPr/>
          <p:nvPr/>
        </p:nvSpPr>
        <p:spPr>
          <a:xfrm flipV="1">
            <a:off x="3505320" y="1065600"/>
            <a:ext cx="1676160" cy="628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46788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矩形 247809"/>
          <p:cNvSpPr/>
          <p:nvPr/>
        </p:nvSpPr>
        <p:spPr>
          <a:xfrm>
            <a:off x="1371600" y="1676520"/>
            <a:ext cx="5791320" cy="198108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247810"/>
          <p:cNvSpPr/>
          <p:nvPr/>
        </p:nvSpPr>
        <p:spPr>
          <a:xfrm>
            <a:off x="3505320" y="3638520"/>
            <a:ext cx="1676160" cy="13906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椭圆 247811"/>
          <p:cNvSpPr/>
          <p:nvPr/>
        </p:nvSpPr>
        <p:spPr>
          <a:xfrm flipV="1">
            <a:off x="3505320" y="684720"/>
            <a:ext cx="1676160" cy="10098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247812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矩形 248833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椭圆 248834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椭圆 248835"/>
          <p:cNvSpPr/>
          <p:nvPr/>
        </p:nvSpPr>
        <p:spPr>
          <a:xfrm flipV="1">
            <a:off x="3505320" y="684720"/>
            <a:ext cx="1676160" cy="16002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48836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248837"/>
          <p:cNvSpPr/>
          <p:nvPr/>
        </p:nvSpPr>
        <p:spPr>
          <a:xfrm>
            <a:off x="39625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248838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249857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249858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249859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组合 249860"/>
          <p:cNvGrpSpPr/>
          <p:nvPr/>
        </p:nvGrpSpPr>
        <p:grpSpPr>
          <a:xfrm>
            <a:off x="533520" y="685440"/>
            <a:ext cx="1676160" cy="1600200"/>
            <a:chOff x="533520" y="685440"/>
            <a:chExt cx="1676160" cy="1600200"/>
          </a:xfrm>
        </p:grpSpPr>
        <p:sp>
          <p:nvSpPr>
            <p:cNvPr id="649" name="椭圆 249861"/>
            <p:cNvSpPr/>
            <p:nvPr/>
          </p:nvSpPr>
          <p:spPr>
            <a:xfrm flipV="1">
              <a:off x="533520" y="684720"/>
              <a:ext cx="1676160" cy="160020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249862"/>
            <p:cNvSpPr/>
            <p:nvPr/>
          </p:nvSpPr>
          <p:spPr>
            <a:xfrm>
              <a:off x="990360" y="137160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底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直接连接符 249863"/>
          <p:cNvSpPr/>
          <p:nvPr/>
        </p:nvSpPr>
        <p:spPr>
          <a:xfrm>
            <a:off x="137160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249864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矩形 250881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椭圆 250882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250883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组合 250884"/>
          <p:cNvGrpSpPr/>
          <p:nvPr/>
        </p:nvGrpSpPr>
        <p:grpSpPr>
          <a:xfrm>
            <a:off x="876240" y="265320"/>
            <a:ext cx="2363400" cy="2363400"/>
            <a:chOff x="876240" y="265320"/>
            <a:chExt cx="2363400" cy="2363400"/>
          </a:xfrm>
        </p:grpSpPr>
        <p:grpSp>
          <p:nvGrpSpPr>
            <p:cNvPr id="657" name="组合 250885"/>
            <p:cNvGrpSpPr/>
            <p:nvPr/>
          </p:nvGrpSpPr>
          <p:grpSpPr>
            <a:xfrm>
              <a:off x="876240" y="265320"/>
              <a:ext cx="2363400" cy="2363400"/>
              <a:chOff x="876240" y="265320"/>
              <a:chExt cx="2363400" cy="2363400"/>
            </a:xfrm>
          </p:grpSpPr>
          <p:sp>
            <p:nvSpPr>
              <p:cNvPr id="658" name="椭圆 250886"/>
              <p:cNvSpPr/>
              <p:nvPr/>
            </p:nvSpPr>
            <p:spPr>
              <a:xfrm flipV="1" rot="2437200">
                <a:off x="1219680" y="60840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文本框 250887"/>
              <p:cNvSpPr/>
              <p:nvPr/>
            </p:nvSpPr>
            <p:spPr>
              <a:xfrm rot="2437200">
                <a:off x="1595160" y="132552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" name="直接连接符 250888"/>
            <p:cNvSpPr/>
            <p:nvPr/>
          </p:nvSpPr>
          <p:spPr>
            <a:xfrm flipH="1">
              <a:off x="1511640" y="1841040"/>
              <a:ext cx="207720" cy="24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直接连接符 250889"/>
          <p:cNvSpPr/>
          <p:nvPr/>
        </p:nvSpPr>
        <p:spPr>
          <a:xfrm>
            <a:off x="1371600" y="22860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未知"/>
          <p:cNvSpPr/>
          <p:nvPr/>
        </p:nvSpPr>
        <p:spPr>
          <a:xfrm>
            <a:off x="1477800" y="2075040"/>
            <a:ext cx="540000" cy="203040"/>
          </a:xfrm>
          <a:custGeom>
            <a:avLst/>
            <a:gdLst/>
            <a:ahLst/>
            <a:rect l="l" t="t" r="r" b="b"/>
            <a:pathLst>
              <a:path w="340" h="128">
                <a:moveTo>
                  <a:pt x="20" y="10"/>
                </a:moveTo>
                <a:cubicBezTo>
                  <a:pt x="96" y="61"/>
                  <a:pt x="0" y="0"/>
                  <a:pt x="75" y="37"/>
                </a:cubicBezTo>
                <a:cubicBezTo>
                  <a:pt x="106" y="52"/>
                  <a:pt x="115" y="72"/>
                  <a:pt x="148" y="83"/>
                </a:cubicBezTo>
                <a:cubicBezTo>
                  <a:pt x="208" y="123"/>
                  <a:pt x="269" y="128"/>
                  <a:pt x="340" y="12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250891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79280" y="17002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说你还记得你学过的哪些图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14560" y="2290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过的立体图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>
            <a:off x="2076480" y="3814920"/>
            <a:ext cx="1905120" cy="106668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6084720" y="3357720"/>
            <a:ext cx="1828800" cy="182880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419200" y="5415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451560" y="5415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117" name="圆角矩形 5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118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复习导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121" name="椭圆 11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椭圆 13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123" name="椭圆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椭圆 29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椭圆 30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127" name="椭圆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圆角矩形 31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130" name="圆角矩形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圆角矩形 32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133" name="圆角矩形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圆角矩形 33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136" name="圆角矩形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圆角矩形 3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139" name="圆角矩形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矩形 251905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椭圆 251906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251907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组合 251908"/>
          <p:cNvGrpSpPr/>
          <p:nvPr/>
        </p:nvGrpSpPr>
        <p:grpSpPr>
          <a:xfrm>
            <a:off x="1486800" y="343080"/>
            <a:ext cx="2208600" cy="2208960"/>
            <a:chOff x="1486800" y="343080"/>
            <a:chExt cx="2208600" cy="2208960"/>
          </a:xfrm>
        </p:grpSpPr>
        <p:grpSp>
          <p:nvGrpSpPr>
            <p:cNvPr id="668" name="组合 251909"/>
            <p:cNvGrpSpPr/>
            <p:nvPr/>
          </p:nvGrpSpPr>
          <p:grpSpPr>
            <a:xfrm>
              <a:off x="1486800" y="343080"/>
              <a:ext cx="2208600" cy="2208960"/>
              <a:chOff x="1486800" y="343080"/>
              <a:chExt cx="2208600" cy="2208960"/>
            </a:xfrm>
          </p:grpSpPr>
          <p:sp>
            <p:nvSpPr>
              <p:cNvPr id="669" name="椭圆 251910"/>
              <p:cNvSpPr/>
              <p:nvPr/>
            </p:nvSpPr>
            <p:spPr>
              <a:xfrm flipV="1" rot="3976200">
                <a:off x="1752840" y="609480"/>
                <a:ext cx="167652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文本框 251911"/>
              <p:cNvSpPr/>
              <p:nvPr/>
            </p:nvSpPr>
            <p:spPr>
              <a:xfrm rot="3976800">
                <a:off x="2085840" y="129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直接连接符 251912"/>
            <p:cNvSpPr/>
            <p:nvPr/>
          </p:nvSpPr>
          <p:spPr>
            <a:xfrm flipH="1">
              <a:off x="1823400" y="1656360"/>
              <a:ext cx="292320" cy="12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直接连接符 251913"/>
          <p:cNvSpPr/>
          <p:nvPr/>
        </p:nvSpPr>
        <p:spPr>
          <a:xfrm>
            <a:off x="1371600" y="22860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未知"/>
          <p:cNvSpPr/>
          <p:nvPr/>
        </p:nvSpPr>
        <p:spPr>
          <a:xfrm>
            <a:off x="1828800" y="1785960"/>
            <a:ext cx="682560" cy="507960"/>
          </a:xfrm>
          <a:custGeom>
            <a:avLst/>
            <a:gdLst/>
            <a:ahLst/>
            <a:rect l="l" t="t" r="r" b="b"/>
            <a:pathLst>
              <a:path w="430" h="320">
                <a:moveTo>
                  <a:pt x="0" y="0"/>
                </a:moveTo>
                <a:cubicBezTo>
                  <a:pt x="5" y="10"/>
                  <a:pt x="14" y="43"/>
                  <a:pt x="37" y="73"/>
                </a:cubicBezTo>
                <a:cubicBezTo>
                  <a:pt x="60" y="103"/>
                  <a:pt x="109" y="154"/>
                  <a:pt x="137" y="182"/>
                </a:cubicBezTo>
                <a:cubicBezTo>
                  <a:pt x="158" y="204"/>
                  <a:pt x="184" y="221"/>
                  <a:pt x="207" y="240"/>
                </a:cubicBezTo>
                <a:cubicBezTo>
                  <a:pt x="225" y="246"/>
                  <a:pt x="211" y="245"/>
                  <a:pt x="219" y="249"/>
                </a:cubicBezTo>
                <a:cubicBezTo>
                  <a:pt x="236" y="258"/>
                  <a:pt x="279" y="279"/>
                  <a:pt x="276" y="270"/>
                </a:cubicBezTo>
                <a:cubicBezTo>
                  <a:pt x="333" y="297"/>
                  <a:pt x="378" y="320"/>
                  <a:pt x="430" y="3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251915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252929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椭圆 252930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252931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252932"/>
          <p:cNvGrpSpPr/>
          <p:nvPr/>
        </p:nvGrpSpPr>
        <p:grpSpPr>
          <a:xfrm>
            <a:off x="2192400" y="591480"/>
            <a:ext cx="1712160" cy="1712880"/>
            <a:chOff x="2192400" y="591480"/>
            <a:chExt cx="1712160" cy="1712880"/>
          </a:xfrm>
        </p:grpSpPr>
        <p:grpSp>
          <p:nvGrpSpPr>
            <p:cNvPr id="679" name="组合 252933"/>
            <p:cNvGrpSpPr/>
            <p:nvPr/>
          </p:nvGrpSpPr>
          <p:grpSpPr>
            <a:xfrm>
              <a:off x="2192400" y="591480"/>
              <a:ext cx="1712160" cy="1712880"/>
              <a:chOff x="2192400" y="591480"/>
              <a:chExt cx="1712160" cy="1712880"/>
            </a:xfrm>
          </p:grpSpPr>
          <p:sp>
            <p:nvSpPr>
              <p:cNvPr id="680" name="椭圆 252934"/>
              <p:cNvSpPr/>
              <p:nvPr/>
            </p:nvSpPr>
            <p:spPr>
              <a:xfrm flipV="1" rot="5324400">
                <a:off x="2210040" y="609840"/>
                <a:ext cx="167652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文本框 252935"/>
              <p:cNvSpPr/>
              <p:nvPr/>
            </p:nvSpPr>
            <p:spPr>
              <a:xfrm rot="5324400">
                <a:off x="2519640" y="1258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直接连接符 252936"/>
            <p:cNvSpPr/>
            <p:nvPr/>
          </p:nvSpPr>
          <p:spPr>
            <a:xfrm flipH="1">
              <a:off x="2210040" y="1459080"/>
              <a:ext cx="318960" cy="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直接连接符 252937"/>
          <p:cNvSpPr/>
          <p:nvPr/>
        </p:nvSpPr>
        <p:spPr>
          <a:xfrm>
            <a:off x="1371600" y="22860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2195640" y="1486080"/>
            <a:ext cx="78084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6" y="0"/>
                </a:moveTo>
                <a:cubicBezTo>
                  <a:pt x="0" y="18"/>
                  <a:pt x="15" y="76"/>
                  <a:pt x="21" y="93"/>
                </a:cubicBezTo>
                <a:cubicBezTo>
                  <a:pt x="30" y="121"/>
                  <a:pt x="33" y="153"/>
                  <a:pt x="45" y="183"/>
                </a:cubicBezTo>
                <a:cubicBezTo>
                  <a:pt x="48" y="192"/>
                  <a:pt x="66" y="228"/>
                  <a:pt x="75" y="246"/>
                </a:cubicBezTo>
                <a:cubicBezTo>
                  <a:pt x="93" y="276"/>
                  <a:pt x="114" y="310"/>
                  <a:pt x="135" y="324"/>
                </a:cubicBezTo>
                <a:cubicBezTo>
                  <a:pt x="147" y="342"/>
                  <a:pt x="165" y="363"/>
                  <a:pt x="183" y="375"/>
                </a:cubicBezTo>
                <a:cubicBezTo>
                  <a:pt x="190" y="386"/>
                  <a:pt x="211" y="395"/>
                  <a:pt x="222" y="402"/>
                </a:cubicBezTo>
                <a:cubicBezTo>
                  <a:pt x="229" y="412"/>
                  <a:pt x="237" y="422"/>
                  <a:pt x="249" y="426"/>
                </a:cubicBezTo>
                <a:cubicBezTo>
                  <a:pt x="258" y="439"/>
                  <a:pt x="275" y="445"/>
                  <a:pt x="291" y="450"/>
                </a:cubicBezTo>
                <a:cubicBezTo>
                  <a:pt x="309" y="456"/>
                  <a:pt x="326" y="471"/>
                  <a:pt x="345" y="477"/>
                </a:cubicBezTo>
                <a:cubicBezTo>
                  <a:pt x="379" y="488"/>
                  <a:pt x="420" y="492"/>
                  <a:pt x="456" y="498"/>
                </a:cubicBezTo>
                <a:cubicBezTo>
                  <a:pt x="490" y="495"/>
                  <a:pt x="478" y="495"/>
                  <a:pt x="492" y="49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52939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矩形 253953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53954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253955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253956"/>
          <p:cNvGrpSpPr/>
          <p:nvPr/>
        </p:nvGrpSpPr>
        <p:grpSpPr>
          <a:xfrm>
            <a:off x="2325240" y="267840"/>
            <a:ext cx="2360160" cy="2360520"/>
            <a:chOff x="2325240" y="267840"/>
            <a:chExt cx="2360160" cy="2360520"/>
          </a:xfrm>
        </p:grpSpPr>
        <p:grpSp>
          <p:nvGrpSpPr>
            <p:cNvPr id="690" name="组合 253957"/>
            <p:cNvGrpSpPr/>
            <p:nvPr/>
          </p:nvGrpSpPr>
          <p:grpSpPr>
            <a:xfrm>
              <a:off x="2325240" y="267840"/>
              <a:ext cx="2360160" cy="2360520"/>
              <a:chOff x="2325240" y="267840"/>
              <a:chExt cx="2360160" cy="2360520"/>
            </a:xfrm>
          </p:grpSpPr>
          <p:sp>
            <p:nvSpPr>
              <p:cNvPr id="691" name="椭圆 253958"/>
              <p:cNvSpPr/>
              <p:nvPr/>
            </p:nvSpPr>
            <p:spPr>
              <a:xfrm flipV="1" rot="7779600">
                <a:off x="2666880" y="609840"/>
                <a:ext cx="167652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文本框 253959"/>
              <p:cNvSpPr/>
              <p:nvPr/>
            </p:nvSpPr>
            <p:spPr>
              <a:xfrm rot="7780200">
                <a:off x="2976840" y="11764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直接连接符 253960"/>
            <p:cNvSpPr/>
            <p:nvPr/>
          </p:nvSpPr>
          <p:spPr>
            <a:xfrm flipH="1" flipV="1">
              <a:off x="2859840" y="912600"/>
              <a:ext cx="2458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直接连接符 253961"/>
          <p:cNvSpPr/>
          <p:nvPr/>
        </p:nvSpPr>
        <p:spPr>
          <a:xfrm>
            <a:off x="1371600" y="2286000"/>
            <a:ext cx="2133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未知"/>
          <p:cNvSpPr/>
          <p:nvPr/>
        </p:nvSpPr>
        <p:spPr>
          <a:xfrm>
            <a:off x="2666880" y="928800"/>
            <a:ext cx="795600" cy="1357200"/>
          </a:xfrm>
          <a:custGeom>
            <a:avLst/>
            <a:gdLst/>
            <a:ahLst/>
            <a:rect l="l" t="t" r="r" b="b"/>
            <a:pathLst>
              <a:path w="501" h="855">
                <a:moveTo>
                  <a:pt x="120" y="0"/>
                </a:moveTo>
                <a:cubicBezTo>
                  <a:pt x="101" y="6"/>
                  <a:pt x="81" y="51"/>
                  <a:pt x="69" y="69"/>
                </a:cubicBezTo>
                <a:cubicBezTo>
                  <a:pt x="63" y="79"/>
                  <a:pt x="57" y="90"/>
                  <a:pt x="48" y="111"/>
                </a:cubicBezTo>
                <a:cubicBezTo>
                  <a:pt x="42" y="126"/>
                  <a:pt x="20" y="171"/>
                  <a:pt x="12" y="201"/>
                </a:cubicBezTo>
                <a:cubicBezTo>
                  <a:pt x="5" y="228"/>
                  <a:pt x="2" y="254"/>
                  <a:pt x="0" y="282"/>
                </a:cubicBezTo>
                <a:cubicBezTo>
                  <a:pt x="1" y="325"/>
                  <a:pt x="0" y="368"/>
                  <a:pt x="3" y="411"/>
                </a:cubicBezTo>
                <a:cubicBezTo>
                  <a:pt x="3" y="417"/>
                  <a:pt x="9" y="429"/>
                  <a:pt x="9" y="429"/>
                </a:cubicBezTo>
                <a:cubicBezTo>
                  <a:pt x="13" y="460"/>
                  <a:pt x="23" y="488"/>
                  <a:pt x="36" y="516"/>
                </a:cubicBezTo>
                <a:cubicBezTo>
                  <a:pt x="44" y="535"/>
                  <a:pt x="49" y="556"/>
                  <a:pt x="60" y="573"/>
                </a:cubicBezTo>
                <a:cubicBezTo>
                  <a:pt x="70" y="588"/>
                  <a:pt x="80" y="606"/>
                  <a:pt x="90" y="621"/>
                </a:cubicBezTo>
                <a:cubicBezTo>
                  <a:pt x="102" y="638"/>
                  <a:pt x="108" y="663"/>
                  <a:pt x="126" y="675"/>
                </a:cubicBezTo>
                <a:cubicBezTo>
                  <a:pt x="130" y="687"/>
                  <a:pt x="141" y="698"/>
                  <a:pt x="153" y="702"/>
                </a:cubicBezTo>
                <a:cubicBezTo>
                  <a:pt x="163" y="717"/>
                  <a:pt x="156" y="709"/>
                  <a:pt x="177" y="723"/>
                </a:cubicBezTo>
                <a:cubicBezTo>
                  <a:pt x="183" y="727"/>
                  <a:pt x="195" y="735"/>
                  <a:pt x="195" y="735"/>
                </a:cubicBezTo>
                <a:cubicBezTo>
                  <a:pt x="205" y="749"/>
                  <a:pt x="220" y="755"/>
                  <a:pt x="234" y="765"/>
                </a:cubicBezTo>
                <a:cubicBezTo>
                  <a:pt x="246" y="784"/>
                  <a:pt x="274" y="791"/>
                  <a:pt x="294" y="801"/>
                </a:cubicBezTo>
                <a:cubicBezTo>
                  <a:pt x="354" y="831"/>
                  <a:pt x="409" y="848"/>
                  <a:pt x="477" y="852"/>
                </a:cubicBezTo>
                <a:cubicBezTo>
                  <a:pt x="499" y="855"/>
                  <a:pt x="491" y="855"/>
                  <a:pt x="501" y="85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253963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矩形 254977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254978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254979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组合 254980"/>
          <p:cNvGrpSpPr/>
          <p:nvPr/>
        </p:nvGrpSpPr>
        <p:grpSpPr>
          <a:xfrm>
            <a:off x="3350160" y="608400"/>
            <a:ext cx="1680480" cy="1679760"/>
            <a:chOff x="3350160" y="608400"/>
            <a:chExt cx="1680480" cy="1679760"/>
          </a:xfrm>
        </p:grpSpPr>
        <p:grpSp>
          <p:nvGrpSpPr>
            <p:cNvPr id="701" name="组合 254981"/>
            <p:cNvGrpSpPr/>
            <p:nvPr/>
          </p:nvGrpSpPr>
          <p:grpSpPr>
            <a:xfrm>
              <a:off x="3350160" y="608400"/>
              <a:ext cx="1680480" cy="1679760"/>
              <a:chOff x="3350160" y="608400"/>
              <a:chExt cx="1680480" cy="1679760"/>
            </a:xfrm>
          </p:grpSpPr>
          <p:sp>
            <p:nvSpPr>
              <p:cNvPr id="702" name="椭圆 254982"/>
              <p:cNvSpPr/>
              <p:nvPr/>
            </p:nvSpPr>
            <p:spPr>
              <a:xfrm flipV="1" rot="10791600">
                <a:off x="3351960" y="610200"/>
                <a:ext cx="167652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文本框 254983"/>
              <p:cNvSpPr/>
              <p:nvPr/>
            </p:nvSpPr>
            <p:spPr>
              <a:xfrm rot="10791600">
                <a:off x="3733200" y="11073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直接连接符 254984"/>
            <p:cNvSpPr/>
            <p:nvPr/>
          </p:nvSpPr>
          <p:spPr>
            <a:xfrm flipH="1" flipV="1">
              <a:off x="4188600" y="609480"/>
              <a:ext cx="720" cy="3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直接连接符 254985"/>
          <p:cNvSpPr/>
          <p:nvPr/>
        </p:nvSpPr>
        <p:spPr>
          <a:xfrm>
            <a:off x="1371600" y="22860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未知"/>
          <p:cNvSpPr/>
          <p:nvPr/>
        </p:nvSpPr>
        <p:spPr>
          <a:xfrm>
            <a:off x="3348000" y="619200"/>
            <a:ext cx="838080" cy="1657440"/>
          </a:xfrm>
          <a:custGeom>
            <a:avLst/>
            <a:gdLst/>
            <a:ahLst/>
            <a:rect l="l" t="t" r="r" b="b"/>
            <a:pathLst>
              <a:path w="528" h="1044">
                <a:moveTo>
                  <a:pt x="528" y="0"/>
                </a:moveTo>
                <a:cubicBezTo>
                  <a:pt x="500" y="1"/>
                  <a:pt x="472" y="1"/>
                  <a:pt x="444" y="3"/>
                </a:cubicBezTo>
                <a:cubicBezTo>
                  <a:pt x="432" y="4"/>
                  <a:pt x="420" y="13"/>
                  <a:pt x="408" y="15"/>
                </a:cubicBezTo>
                <a:cubicBezTo>
                  <a:pt x="378" y="20"/>
                  <a:pt x="350" y="26"/>
                  <a:pt x="321" y="36"/>
                </a:cubicBezTo>
                <a:cubicBezTo>
                  <a:pt x="314" y="38"/>
                  <a:pt x="310" y="46"/>
                  <a:pt x="303" y="48"/>
                </a:cubicBezTo>
                <a:cubicBezTo>
                  <a:pt x="283" y="55"/>
                  <a:pt x="267" y="62"/>
                  <a:pt x="249" y="72"/>
                </a:cubicBezTo>
                <a:cubicBezTo>
                  <a:pt x="249" y="72"/>
                  <a:pt x="227" y="87"/>
                  <a:pt x="222" y="90"/>
                </a:cubicBezTo>
                <a:cubicBezTo>
                  <a:pt x="219" y="92"/>
                  <a:pt x="213" y="96"/>
                  <a:pt x="213" y="96"/>
                </a:cubicBezTo>
                <a:cubicBezTo>
                  <a:pt x="203" y="110"/>
                  <a:pt x="188" y="116"/>
                  <a:pt x="174" y="126"/>
                </a:cubicBezTo>
                <a:cubicBezTo>
                  <a:pt x="160" y="147"/>
                  <a:pt x="168" y="140"/>
                  <a:pt x="153" y="150"/>
                </a:cubicBezTo>
                <a:cubicBezTo>
                  <a:pt x="146" y="161"/>
                  <a:pt x="134" y="173"/>
                  <a:pt x="123" y="180"/>
                </a:cubicBezTo>
                <a:cubicBezTo>
                  <a:pt x="107" y="204"/>
                  <a:pt x="128" y="175"/>
                  <a:pt x="108" y="195"/>
                </a:cubicBezTo>
                <a:cubicBezTo>
                  <a:pt x="98" y="205"/>
                  <a:pt x="105" y="202"/>
                  <a:pt x="99" y="213"/>
                </a:cubicBezTo>
                <a:cubicBezTo>
                  <a:pt x="91" y="227"/>
                  <a:pt x="83" y="238"/>
                  <a:pt x="72" y="249"/>
                </a:cubicBezTo>
                <a:cubicBezTo>
                  <a:pt x="66" y="266"/>
                  <a:pt x="52" y="288"/>
                  <a:pt x="42" y="303"/>
                </a:cubicBezTo>
                <a:cubicBezTo>
                  <a:pt x="35" y="314"/>
                  <a:pt x="31" y="335"/>
                  <a:pt x="27" y="348"/>
                </a:cubicBezTo>
                <a:cubicBezTo>
                  <a:pt x="14" y="386"/>
                  <a:pt x="12" y="413"/>
                  <a:pt x="6" y="453"/>
                </a:cubicBezTo>
                <a:cubicBezTo>
                  <a:pt x="0" y="498"/>
                  <a:pt x="7" y="560"/>
                  <a:pt x="9" y="609"/>
                </a:cubicBezTo>
                <a:cubicBezTo>
                  <a:pt x="15" y="660"/>
                  <a:pt x="35" y="712"/>
                  <a:pt x="51" y="759"/>
                </a:cubicBezTo>
                <a:cubicBezTo>
                  <a:pt x="66" y="786"/>
                  <a:pt x="66" y="786"/>
                  <a:pt x="81" y="807"/>
                </a:cubicBezTo>
                <a:cubicBezTo>
                  <a:pt x="90" y="821"/>
                  <a:pt x="95" y="834"/>
                  <a:pt x="108" y="843"/>
                </a:cubicBezTo>
                <a:cubicBezTo>
                  <a:pt x="116" y="855"/>
                  <a:pt x="126" y="880"/>
                  <a:pt x="138" y="888"/>
                </a:cubicBezTo>
                <a:cubicBezTo>
                  <a:pt x="140" y="891"/>
                  <a:pt x="132" y="886"/>
                  <a:pt x="135" y="888"/>
                </a:cubicBezTo>
                <a:cubicBezTo>
                  <a:pt x="137" y="890"/>
                  <a:pt x="142" y="889"/>
                  <a:pt x="144" y="891"/>
                </a:cubicBezTo>
                <a:cubicBezTo>
                  <a:pt x="179" y="926"/>
                  <a:pt x="145" y="898"/>
                  <a:pt x="171" y="915"/>
                </a:cubicBezTo>
                <a:cubicBezTo>
                  <a:pt x="201" y="939"/>
                  <a:pt x="218" y="958"/>
                  <a:pt x="246" y="972"/>
                </a:cubicBezTo>
                <a:cubicBezTo>
                  <a:pt x="252" y="975"/>
                  <a:pt x="252" y="978"/>
                  <a:pt x="258" y="981"/>
                </a:cubicBezTo>
                <a:cubicBezTo>
                  <a:pt x="264" y="984"/>
                  <a:pt x="276" y="987"/>
                  <a:pt x="276" y="987"/>
                </a:cubicBezTo>
                <a:cubicBezTo>
                  <a:pt x="282" y="996"/>
                  <a:pt x="315" y="999"/>
                  <a:pt x="324" y="1008"/>
                </a:cubicBezTo>
                <a:cubicBezTo>
                  <a:pt x="348" y="1011"/>
                  <a:pt x="354" y="1021"/>
                  <a:pt x="369" y="1023"/>
                </a:cubicBezTo>
                <a:cubicBezTo>
                  <a:pt x="416" y="1029"/>
                  <a:pt x="451" y="1039"/>
                  <a:pt x="498" y="1041"/>
                </a:cubicBezTo>
                <a:cubicBezTo>
                  <a:pt x="501" y="1042"/>
                  <a:pt x="507" y="1044"/>
                  <a:pt x="507" y="10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254987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256001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256002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56003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椭圆 256004"/>
          <p:cNvSpPr/>
          <p:nvPr/>
        </p:nvSpPr>
        <p:spPr>
          <a:xfrm flipV="1" rot="13211400">
            <a:off x="4114440" y="608400"/>
            <a:ext cx="1676520" cy="16761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256005"/>
          <p:cNvSpPr/>
          <p:nvPr/>
        </p:nvSpPr>
        <p:spPr>
          <a:xfrm rot="13210800">
            <a:off x="4575960" y="110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256006"/>
          <p:cNvSpPr/>
          <p:nvPr/>
        </p:nvSpPr>
        <p:spPr>
          <a:xfrm flipV="1">
            <a:off x="5288040" y="805680"/>
            <a:ext cx="205920" cy="24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直接连接符 256007"/>
          <p:cNvSpPr/>
          <p:nvPr/>
        </p:nvSpPr>
        <p:spPr>
          <a:xfrm>
            <a:off x="1371600" y="228600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未知"/>
          <p:cNvSpPr/>
          <p:nvPr/>
        </p:nvSpPr>
        <p:spPr>
          <a:xfrm>
            <a:off x="4952880" y="814320"/>
            <a:ext cx="843120" cy="1471680"/>
          </a:xfrm>
          <a:custGeom>
            <a:avLst/>
            <a:gdLst/>
            <a:ahLst/>
            <a:rect l="l" t="t" r="r" b="b"/>
            <a:pathLst>
              <a:path w="531" h="927">
                <a:moveTo>
                  <a:pt x="342" y="0"/>
                </a:moveTo>
                <a:cubicBezTo>
                  <a:pt x="357" y="5"/>
                  <a:pt x="362" y="15"/>
                  <a:pt x="375" y="24"/>
                </a:cubicBezTo>
                <a:cubicBezTo>
                  <a:pt x="382" y="44"/>
                  <a:pt x="372" y="22"/>
                  <a:pt x="387" y="39"/>
                </a:cubicBezTo>
                <a:cubicBezTo>
                  <a:pt x="401" y="56"/>
                  <a:pt x="408" y="66"/>
                  <a:pt x="426" y="90"/>
                </a:cubicBezTo>
                <a:cubicBezTo>
                  <a:pt x="441" y="112"/>
                  <a:pt x="457" y="137"/>
                  <a:pt x="468" y="162"/>
                </a:cubicBezTo>
                <a:cubicBezTo>
                  <a:pt x="476" y="180"/>
                  <a:pt x="474" y="177"/>
                  <a:pt x="486" y="198"/>
                </a:cubicBezTo>
                <a:cubicBezTo>
                  <a:pt x="501" y="242"/>
                  <a:pt x="513" y="276"/>
                  <a:pt x="522" y="330"/>
                </a:cubicBezTo>
                <a:cubicBezTo>
                  <a:pt x="520" y="373"/>
                  <a:pt x="531" y="435"/>
                  <a:pt x="513" y="489"/>
                </a:cubicBezTo>
                <a:cubicBezTo>
                  <a:pt x="510" y="525"/>
                  <a:pt x="498" y="558"/>
                  <a:pt x="483" y="591"/>
                </a:cubicBezTo>
                <a:cubicBezTo>
                  <a:pt x="480" y="597"/>
                  <a:pt x="478" y="610"/>
                  <a:pt x="474" y="615"/>
                </a:cubicBezTo>
                <a:cubicBezTo>
                  <a:pt x="469" y="623"/>
                  <a:pt x="462" y="636"/>
                  <a:pt x="450" y="654"/>
                </a:cubicBezTo>
                <a:cubicBezTo>
                  <a:pt x="441" y="682"/>
                  <a:pt x="418" y="721"/>
                  <a:pt x="393" y="738"/>
                </a:cubicBezTo>
                <a:cubicBezTo>
                  <a:pt x="389" y="749"/>
                  <a:pt x="373" y="762"/>
                  <a:pt x="363" y="768"/>
                </a:cubicBezTo>
                <a:cubicBezTo>
                  <a:pt x="361" y="771"/>
                  <a:pt x="360" y="774"/>
                  <a:pt x="357" y="777"/>
                </a:cubicBezTo>
                <a:cubicBezTo>
                  <a:pt x="354" y="780"/>
                  <a:pt x="350" y="780"/>
                  <a:pt x="348" y="783"/>
                </a:cubicBezTo>
                <a:cubicBezTo>
                  <a:pt x="346" y="785"/>
                  <a:pt x="347" y="790"/>
                  <a:pt x="345" y="792"/>
                </a:cubicBezTo>
                <a:cubicBezTo>
                  <a:pt x="340" y="797"/>
                  <a:pt x="327" y="804"/>
                  <a:pt x="327" y="804"/>
                </a:cubicBezTo>
                <a:cubicBezTo>
                  <a:pt x="313" y="825"/>
                  <a:pt x="282" y="841"/>
                  <a:pt x="261" y="855"/>
                </a:cubicBezTo>
                <a:cubicBezTo>
                  <a:pt x="250" y="863"/>
                  <a:pt x="234" y="871"/>
                  <a:pt x="222" y="876"/>
                </a:cubicBezTo>
                <a:cubicBezTo>
                  <a:pt x="166" y="901"/>
                  <a:pt x="59" y="927"/>
                  <a:pt x="0" y="92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256009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矩形 257025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椭圆 257026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257027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椭圆 257028"/>
          <p:cNvSpPr/>
          <p:nvPr/>
        </p:nvSpPr>
        <p:spPr>
          <a:xfrm flipV="1" rot="16178400">
            <a:off x="4876560" y="608760"/>
            <a:ext cx="1676520" cy="16761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57029"/>
          <p:cNvSpPr/>
          <p:nvPr/>
        </p:nvSpPr>
        <p:spPr>
          <a:xfrm rot="16178400">
            <a:off x="5404680" y="117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257030"/>
          <p:cNvSpPr/>
          <p:nvPr/>
        </p:nvSpPr>
        <p:spPr>
          <a:xfrm flipV="1">
            <a:off x="6230880" y="1441800"/>
            <a:ext cx="320760" cy="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257031"/>
          <p:cNvSpPr/>
          <p:nvPr/>
        </p:nvSpPr>
        <p:spPr>
          <a:xfrm>
            <a:off x="1371600" y="228600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未知"/>
          <p:cNvSpPr/>
          <p:nvPr/>
        </p:nvSpPr>
        <p:spPr>
          <a:xfrm>
            <a:off x="5694480" y="1452600"/>
            <a:ext cx="858600" cy="833400"/>
          </a:xfrm>
          <a:custGeom>
            <a:avLst/>
            <a:gdLst/>
            <a:ahLst/>
            <a:rect l="l" t="t" r="r" b="b"/>
            <a:pathLst>
              <a:path w="541" h="525">
                <a:moveTo>
                  <a:pt x="541" y="0"/>
                </a:moveTo>
                <a:cubicBezTo>
                  <a:pt x="536" y="33"/>
                  <a:pt x="533" y="66"/>
                  <a:pt x="529" y="99"/>
                </a:cubicBezTo>
                <a:cubicBezTo>
                  <a:pt x="526" y="120"/>
                  <a:pt x="516" y="139"/>
                  <a:pt x="511" y="159"/>
                </a:cubicBezTo>
                <a:cubicBezTo>
                  <a:pt x="505" y="184"/>
                  <a:pt x="502" y="192"/>
                  <a:pt x="487" y="222"/>
                </a:cubicBezTo>
                <a:cubicBezTo>
                  <a:pt x="476" y="256"/>
                  <a:pt x="450" y="288"/>
                  <a:pt x="430" y="318"/>
                </a:cubicBezTo>
                <a:cubicBezTo>
                  <a:pt x="426" y="325"/>
                  <a:pt x="419" y="335"/>
                  <a:pt x="412" y="339"/>
                </a:cubicBezTo>
                <a:cubicBezTo>
                  <a:pt x="406" y="348"/>
                  <a:pt x="400" y="354"/>
                  <a:pt x="400" y="354"/>
                </a:cubicBezTo>
                <a:cubicBezTo>
                  <a:pt x="393" y="365"/>
                  <a:pt x="387" y="371"/>
                  <a:pt x="376" y="378"/>
                </a:cubicBezTo>
                <a:cubicBezTo>
                  <a:pt x="370" y="388"/>
                  <a:pt x="354" y="398"/>
                  <a:pt x="343" y="402"/>
                </a:cubicBezTo>
                <a:cubicBezTo>
                  <a:pt x="336" y="413"/>
                  <a:pt x="319" y="422"/>
                  <a:pt x="307" y="426"/>
                </a:cubicBezTo>
                <a:cubicBezTo>
                  <a:pt x="296" y="442"/>
                  <a:pt x="273" y="448"/>
                  <a:pt x="256" y="459"/>
                </a:cubicBezTo>
                <a:cubicBezTo>
                  <a:pt x="212" y="488"/>
                  <a:pt x="120" y="511"/>
                  <a:pt x="67" y="519"/>
                </a:cubicBezTo>
                <a:cubicBezTo>
                  <a:pt x="16" y="522"/>
                  <a:pt x="0" y="525"/>
                  <a:pt x="22" y="52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57033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矩形 258049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258050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58051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258052"/>
          <p:cNvSpPr/>
          <p:nvPr/>
        </p:nvSpPr>
        <p:spPr>
          <a:xfrm flipV="1" rot="18407400">
            <a:off x="5409720" y="609120"/>
            <a:ext cx="167652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258053"/>
          <p:cNvSpPr/>
          <p:nvPr/>
        </p:nvSpPr>
        <p:spPr>
          <a:xfrm rot="18406800">
            <a:off x="5939640" y="125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258054"/>
          <p:cNvSpPr/>
          <p:nvPr/>
        </p:nvSpPr>
        <p:spPr>
          <a:xfrm>
            <a:off x="6662520" y="1757520"/>
            <a:ext cx="254160" cy="19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258055"/>
          <p:cNvSpPr/>
          <p:nvPr/>
        </p:nvSpPr>
        <p:spPr>
          <a:xfrm>
            <a:off x="1371600" y="2286000"/>
            <a:ext cx="4876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未知"/>
          <p:cNvSpPr/>
          <p:nvPr/>
        </p:nvSpPr>
        <p:spPr>
          <a:xfrm>
            <a:off x="6253200" y="1947960"/>
            <a:ext cx="662040" cy="338040"/>
          </a:xfrm>
          <a:custGeom>
            <a:avLst/>
            <a:gdLst/>
            <a:ahLst/>
            <a:rect l="l" t="t" r="r" b="b"/>
            <a:pathLst>
              <a:path w="417" h="213">
                <a:moveTo>
                  <a:pt x="417" y="0"/>
                </a:moveTo>
                <a:cubicBezTo>
                  <a:pt x="407" y="15"/>
                  <a:pt x="403" y="31"/>
                  <a:pt x="387" y="42"/>
                </a:cubicBezTo>
                <a:cubicBezTo>
                  <a:pt x="380" y="53"/>
                  <a:pt x="366" y="63"/>
                  <a:pt x="366" y="69"/>
                </a:cubicBezTo>
                <a:cubicBezTo>
                  <a:pt x="360" y="73"/>
                  <a:pt x="342" y="84"/>
                  <a:pt x="339" y="81"/>
                </a:cubicBezTo>
                <a:cubicBezTo>
                  <a:pt x="325" y="102"/>
                  <a:pt x="334" y="94"/>
                  <a:pt x="318" y="99"/>
                </a:cubicBezTo>
                <a:cubicBezTo>
                  <a:pt x="307" y="115"/>
                  <a:pt x="285" y="120"/>
                  <a:pt x="261" y="138"/>
                </a:cubicBezTo>
                <a:cubicBezTo>
                  <a:pt x="234" y="159"/>
                  <a:pt x="206" y="167"/>
                  <a:pt x="177" y="180"/>
                </a:cubicBezTo>
                <a:cubicBezTo>
                  <a:pt x="121" y="205"/>
                  <a:pt x="61" y="213"/>
                  <a:pt x="0" y="21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258057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矩形 259073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259074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259075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259076"/>
          <p:cNvSpPr/>
          <p:nvPr/>
        </p:nvSpPr>
        <p:spPr>
          <a:xfrm flipV="1" rot="15600">
            <a:off x="6324120" y="609480"/>
            <a:ext cx="167652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259077"/>
          <p:cNvSpPr/>
          <p:nvPr/>
        </p:nvSpPr>
        <p:spPr>
          <a:xfrm rot="15000">
            <a:off x="6780240" y="1328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259078"/>
          <p:cNvSpPr/>
          <p:nvPr/>
        </p:nvSpPr>
        <p:spPr>
          <a:xfrm flipH="1">
            <a:off x="7158960" y="1965240"/>
            <a:ext cx="1440" cy="3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259079"/>
          <p:cNvSpPr/>
          <p:nvPr/>
        </p:nvSpPr>
        <p:spPr>
          <a:xfrm>
            <a:off x="1371600" y="2286000"/>
            <a:ext cx="5791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259080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矩形 260097"/>
          <p:cNvSpPr/>
          <p:nvPr/>
        </p:nvSpPr>
        <p:spPr>
          <a:xfrm>
            <a:off x="1371600" y="2286000"/>
            <a:ext cx="5791320" cy="19573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260098"/>
          <p:cNvSpPr/>
          <p:nvPr/>
        </p:nvSpPr>
        <p:spPr>
          <a:xfrm>
            <a:off x="3505320" y="4248000"/>
            <a:ext cx="167616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组合 260099"/>
          <p:cNvGrpSpPr/>
          <p:nvPr/>
        </p:nvGrpSpPr>
        <p:grpSpPr>
          <a:xfrm>
            <a:off x="1371240" y="2286000"/>
            <a:ext cx="5715360" cy="459720"/>
            <a:chOff x="1371240" y="2286000"/>
            <a:chExt cx="5715360" cy="459720"/>
          </a:xfrm>
        </p:grpSpPr>
        <p:sp>
          <p:nvSpPr>
            <p:cNvPr id="746" name="文本框 260100"/>
            <p:cNvSpPr/>
            <p:nvPr/>
          </p:nvSpPr>
          <p:spPr>
            <a:xfrm>
              <a:off x="3429000" y="2286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底面的周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直接连接符 260101"/>
            <p:cNvSpPr/>
            <p:nvPr/>
          </p:nvSpPr>
          <p:spPr>
            <a:xfrm>
              <a:off x="5181480" y="25146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直接连接符 260102"/>
            <p:cNvSpPr/>
            <p:nvPr/>
          </p:nvSpPr>
          <p:spPr>
            <a:xfrm flipH="1">
              <a:off x="1371240" y="2514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文本框 260103"/>
          <p:cNvSpPr/>
          <p:nvPr/>
        </p:nvSpPr>
        <p:spPr>
          <a:xfrm>
            <a:off x="396252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260104"/>
          <p:cNvSpPr/>
          <p:nvPr/>
        </p:nvSpPr>
        <p:spPr>
          <a:xfrm>
            <a:off x="71629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260105"/>
          <p:cNvSpPr/>
          <p:nvPr/>
        </p:nvSpPr>
        <p:spPr>
          <a:xfrm flipV="1" rot="15600">
            <a:off x="6324120" y="609480"/>
            <a:ext cx="167652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260106"/>
          <p:cNvSpPr/>
          <p:nvPr/>
        </p:nvSpPr>
        <p:spPr>
          <a:xfrm rot="15000">
            <a:off x="6780240" y="1328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260107"/>
          <p:cNvSpPr/>
          <p:nvPr/>
        </p:nvSpPr>
        <p:spPr>
          <a:xfrm flipH="1">
            <a:off x="7158960" y="1965240"/>
            <a:ext cx="1440" cy="3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260108"/>
          <p:cNvSpPr/>
          <p:nvPr/>
        </p:nvSpPr>
        <p:spPr>
          <a:xfrm>
            <a:off x="1371600" y="2286000"/>
            <a:ext cx="5791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260109"/>
          <p:cNvSpPr/>
          <p:nvPr/>
        </p:nvSpPr>
        <p:spPr>
          <a:xfrm>
            <a:off x="147852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柱展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的上、下两个面叫做圆柱的底面，两个底面完全相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围成圆柱的曲面叫做圆柱的侧面；展开后是一个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正方形），长是圆柱的底面周长，宽是圆柱的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圆柱两个底面之间的距离叫做圆柱的高，高有无数多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758" name="圆角矩形 2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759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总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762" name="椭圆 4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3" name="椭圆 6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764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5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6" name="椭圆 7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7" name="椭圆 8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768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9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圆角矩形 9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771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2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圆角矩形 10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774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5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圆角矩形 12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777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8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9" name="圆角矩形 1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780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1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"/>
          <p:cNvPicPr/>
          <p:nvPr/>
        </p:nvPicPr>
        <p:blipFill>
          <a:blip r:embed="rId1"/>
          <a:stretch/>
        </p:blipFill>
        <p:spPr>
          <a:xfrm>
            <a:off x="1946160" y="1793880"/>
            <a:ext cx="5889600" cy="36748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529080" y="1074600"/>
            <a:ext cx="32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观察这些物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29080" y="5724360"/>
            <a:ext cx="27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哪些是圆柱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145" name="圆角矩形 2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146" name="圆角矩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149" name="椭圆 4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椭圆 6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151" name="椭圆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椭圆 7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" name="椭圆 8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155" name="椭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圆角矩形 9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158" name="圆角矩形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圆角矩形 10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161" name="圆角矩形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圆角矩形 12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164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圆角矩形 1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167" name="圆角矩形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生活中，圆柱的高会有不同的称呼，你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4" descr="50_8770005"/>
          <p:cNvPicPr/>
          <p:nvPr/>
        </p:nvPicPr>
        <p:blipFill>
          <a:blip r:embed="rId1"/>
          <a:stretch/>
        </p:blipFill>
        <p:spPr>
          <a:xfrm>
            <a:off x="395280" y="170028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3960720" cy="280800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7"/>
          <p:cNvSpPr/>
          <p:nvPr/>
        </p:nvSpPr>
        <p:spPr>
          <a:xfrm>
            <a:off x="7440120" y="31417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672480" y="2924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6" descr="1120111716"/>
          <p:cNvPicPr/>
          <p:nvPr/>
        </p:nvPicPr>
        <p:blipFill>
          <a:blip r:embed="rId3"/>
          <a:stretch/>
        </p:blipFill>
        <p:spPr>
          <a:xfrm>
            <a:off x="2863800" y="4102200"/>
            <a:ext cx="3745080" cy="206352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9"/>
          <p:cNvSpPr/>
          <p:nvPr/>
        </p:nvSpPr>
        <p:spPr>
          <a:xfrm>
            <a:off x="3407760" y="4869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宋体"/>
              </a:rPr>
              <a:t>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2"/>
          <p:cNvPicPr/>
          <p:nvPr/>
        </p:nvPicPr>
        <p:blipFill>
          <a:blip r:embed="rId1"/>
          <a:stretch/>
        </p:blipFill>
        <p:spPr>
          <a:xfrm>
            <a:off x="76320" y="1512720"/>
            <a:ext cx="8991360" cy="3353040"/>
          </a:xfrm>
          <a:prstGeom prst="rect">
            <a:avLst/>
          </a:prstGeom>
          <a:ln w="0">
            <a:noFill/>
          </a:ln>
        </p:spPr>
      </p:pic>
      <p:sp>
        <p:nvSpPr>
          <p:cNvPr id="790" name="矩形 87042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87043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793" name="圆角矩形 2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794" name="圆角矩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5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探索新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6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797" name="椭圆 4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8" name="椭圆 6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799" name="椭圆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0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1" name="椭圆 7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椭圆 8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803" name="椭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圆角矩形 9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806" name="圆角矩形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7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圆角矩形 10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809" name="圆角矩形 1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圆角矩形 12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812" name="圆角矩形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3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圆角矩形 1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815" name="圆角矩形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6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7" name="文本框 5"/>
          <p:cNvSpPr/>
          <p:nvPr/>
        </p:nvSpPr>
        <p:spPr>
          <a:xfrm>
            <a:off x="3555360" y="50896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仔细观察圆锥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12"/>
          <p:cNvSpPr/>
          <p:nvPr/>
        </p:nvSpPr>
        <p:spPr>
          <a:xfrm>
            <a:off x="573120" y="752400"/>
            <a:ext cx="758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说一说：圆锥的顶点、底面、侧面的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想一想：圆锥的高是什么？你认为圆锥有多少条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圆锥的特征与圆柱有哪些相同与不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还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290520" y="2849400"/>
            <a:ext cx="8229600" cy="79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锥的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457200" y="3511440"/>
            <a:ext cx="8229600" cy="28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圆锥有一个顶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圆锥的底面是一个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圆锥的侧面是一个曲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4"/>
          <p:cNvPicPr/>
          <p:nvPr/>
        </p:nvPicPr>
        <p:blipFill>
          <a:blip r:embed="rId1"/>
          <a:stretch/>
        </p:blipFill>
        <p:spPr>
          <a:xfrm>
            <a:off x="2895480" y="3048120"/>
            <a:ext cx="3457800" cy="2923920"/>
          </a:xfrm>
          <a:prstGeom prst="rect">
            <a:avLst/>
          </a:prstGeom>
          <a:ln w="0">
            <a:noFill/>
          </a:ln>
        </p:spPr>
      </p:pic>
      <p:sp>
        <p:nvSpPr>
          <p:cNvPr id="822" name="Line 3"/>
          <p:cNvSpPr/>
          <p:nvPr/>
        </p:nvSpPr>
        <p:spPr>
          <a:xfrm>
            <a:off x="4905360" y="4343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4"/>
          <p:cNvSpPr/>
          <p:nvPr/>
        </p:nvSpPr>
        <p:spPr>
          <a:xfrm>
            <a:off x="3838680" y="3886200"/>
            <a:ext cx="380880" cy="14479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5"/>
          <p:cNvSpPr/>
          <p:nvPr/>
        </p:nvSpPr>
        <p:spPr>
          <a:xfrm>
            <a:off x="4267080" y="3200400"/>
            <a:ext cx="1219320" cy="21337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"/>
          <p:cNvSpPr/>
          <p:nvPr/>
        </p:nvSpPr>
        <p:spPr>
          <a:xfrm>
            <a:off x="468360" y="981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圆锥的底面是一个圆，圆锥的侧面是一个曲面。从圆锥的顶点到底面圆心的距离是圆锥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90118"/>
          <p:cNvSpPr/>
          <p:nvPr/>
        </p:nvSpPr>
        <p:spPr>
          <a:xfrm>
            <a:off x="4295880" y="3375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90119"/>
          <p:cNvSpPr/>
          <p:nvPr/>
        </p:nvSpPr>
        <p:spPr>
          <a:xfrm>
            <a:off x="4511880" y="3591000"/>
            <a:ext cx="55368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宋体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宋体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6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6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3"/>
          <p:cNvSpPr/>
          <p:nvPr/>
        </p:nvSpPr>
        <p:spPr>
          <a:xfrm>
            <a:off x="1087560" y="5699160"/>
            <a:ext cx="64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想一想：圆锥与圆柱有哪些区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4"/>
          <p:cNvSpPr/>
          <p:nvPr/>
        </p:nvSpPr>
        <p:spPr>
          <a:xfrm>
            <a:off x="750960" y="2492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2427120" y="23400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750960" y="416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侧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903240" y="3330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741320" y="2416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9"/>
          <p:cNvSpPr/>
          <p:nvPr/>
        </p:nvSpPr>
        <p:spPr>
          <a:xfrm>
            <a:off x="2660400" y="249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只有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0"/>
          <p:cNvSpPr/>
          <p:nvPr/>
        </p:nvSpPr>
        <p:spPr>
          <a:xfrm>
            <a:off x="4865760" y="2492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两个完全一样的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1"/>
          <p:cNvSpPr/>
          <p:nvPr/>
        </p:nvSpPr>
        <p:spPr>
          <a:xfrm>
            <a:off x="2198520" y="333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只有一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2"/>
          <p:cNvSpPr/>
          <p:nvPr/>
        </p:nvSpPr>
        <p:spPr>
          <a:xfrm>
            <a:off x="5094360" y="3330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有无数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3"/>
          <p:cNvSpPr/>
          <p:nvPr/>
        </p:nvSpPr>
        <p:spPr>
          <a:xfrm>
            <a:off x="1817640" y="4168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曲面，展开后是扇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4865760" y="4168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曲面，沿高展开后是长方形（正方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5"/>
          <p:cNvGrpSpPr/>
          <p:nvPr/>
        </p:nvGrpSpPr>
        <p:grpSpPr>
          <a:xfrm>
            <a:off x="577800" y="1278000"/>
            <a:ext cx="7391520" cy="4038480"/>
            <a:chOff x="577800" y="1278000"/>
            <a:chExt cx="7391520" cy="4038480"/>
          </a:xfrm>
        </p:grpSpPr>
        <p:grpSp>
          <p:nvGrpSpPr>
            <p:cNvPr id="841" name="Group 16"/>
            <p:cNvGrpSpPr/>
            <p:nvPr/>
          </p:nvGrpSpPr>
          <p:grpSpPr>
            <a:xfrm>
              <a:off x="577800" y="1278000"/>
              <a:ext cx="7391520" cy="4038480"/>
              <a:chOff x="577800" y="1278000"/>
              <a:chExt cx="7391520" cy="4038480"/>
            </a:xfrm>
          </p:grpSpPr>
          <p:sp>
            <p:nvSpPr>
              <p:cNvPr id="842" name="Line 17"/>
              <p:cNvSpPr/>
              <p:nvPr/>
            </p:nvSpPr>
            <p:spPr>
              <a:xfrm>
                <a:off x="577800" y="3259080"/>
                <a:ext cx="739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18"/>
              <p:cNvSpPr/>
              <p:nvPr/>
            </p:nvSpPr>
            <p:spPr>
              <a:xfrm>
                <a:off x="577800" y="4097520"/>
                <a:ext cx="739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19"/>
              <p:cNvSpPr/>
              <p:nvPr/>
            </p:nvSpPr>
            <p:spPr>
              <a:xfrm>
                <a:off x="577800" y="5316480"/>
                <a:ext cx="739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20"/>
              <p:cNvSpPr/>
              <p:nvPr/>
            </p:nvSpPr>
            <p:spPr>
              <a:xfrm>
                <a:off x="1797120" y="1278000"/>
                <a:ext cx="0" cy="403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21"/>
              <p:cNvSpPr/>
              <p:nvPr/>
            </p:nvSpPr>
            <p:spPr>
              <a:xfrm>
                <a:off x="4616280" y="1278000"/>
                <a:ext cx="0" cy="403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Group 22"/>
            <p:cNvGrpSpPr/>
            <p:nvPr/>
          </p:nvGrpSpPr>
          <p:grpSpPr>
            <a:xfrm>
              <a:off x="577800" y="1278000"/>
              <a:ext cx="7391520" cy="1143000"/>
              <a:chOff x="577800" y="1278000"/>
              <a:chExt cx="7391520" cy="1143000"/>
            </a:xfrm>
          </p:grpSpPr>
          <p:sp>
            <p:nvSpPr>
              <p:cNvPr id="848" name="Text Box 23"/>
              <p:cNvSpPr/>
              <p:nvPr/>
            </p:nvSpPr>
            <p:spPr>
              <a:xfrm>
                <a:off x="2558880" y="16588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圆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Text Box 24"/>
              <p:cNvSpPr/>
              <p:nvPr/>
            </p:nvSpPr>
            <p:spPr>
              <a:xfrm>
                <a:off x="4692600" y="165888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圆柱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50" name="Object 25"/>
              <p:cNvGraphicFramePr/>
              <p:nvPr/>
            </p:nvGraphicFramePr>
            <p:xfrm>
              <a:off x="3397320" y="1506600"/>
              <a:ext cx="663480" cy="762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51" name="Object 25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397320" y="1506600"/>
                        <a:ext cx="663480" cy="762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52" name="Object 26"/>
              <p:cNvGraphicFramePr/>
              <p:nvPr/>
            </p:nvGraphicFramePr>
            <p:xfrm>
              <a:off x="5530680" y="1506600"/>
              <a:ext cx="497160" cy="773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53" name="Object 2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30680" y="1506600"/>
                        <a:ext cx="497160" cy="773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4" name="Line 27"/>
              <p:cNvSpPr/>
              <p:nvPr/>
            </p:nvSpPr>
            <p:spPr>
              <a:xfrm>
                <a:off x="577800" y="2421000"/>
                <a:ext cx="739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28"/>
              <p:cNvSpPr/>
              <p:nvPr/>
            </p:nvSpPr>
            <p:spPr>
              <a:xfrm>
                <a:off x="577800" y="1278000"/>
                <a:ext cx="739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rd"/>
    <p:sndAc>
      <p:stSnd>
        <p:snd r:embed="rId5" name="projctor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64360" cy="453708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3"/>
          <p:cNvSpPr/>
          <p:nvPr/>
        </p:nvSpPr>
        <p:spPr>
          <a:xfrm>
            <a:off x="1908000" y="8366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生活中的圆柱与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6476760" cy="48816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3"/>
          <p:cNvSpPr/>
          <p:nvPr/>
        </p:nvSpPr>
        <p:spPr>
          <a:xfrm>
            <a:off x="380880" y="674640"/>
            <a:ext cx="7621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104451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104452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迷你简胖头鱼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859720" cy="510552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3"/>
          <p:cNvSpPr/>
          <p:nvPr/>
        </p:nvSpPr>
        <p:spPr>
          <a:xfrm>
            <a:off x="2124000" y="907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生活中的圆柱与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rcRect l="0" t="12477" r="0" b="0"/>
          <a:stretch/>
        </p:blipFill>
        <p:spPr>
          <a:xfrm>
            <a:off x="71280" y="1352520"/>
            <a:ext cx="8534520" cy="4371840"/>
          </a:xfrm>
          <a:prstGeom prst="rect">
            <a:avLst/>
          </a:prstGeom>
          <a:ln w="0">
            <a:noFill/>
          </a:ln>
        </p:spPr>
      </p:pic>
      <p:sp>
        <p:nvSpPr>
          <p:cNvPr id="865" name="Rectangle 7"/>
          <p:cNvSpPr/>
          <p:nvPr/>
        </p:nvSpPr>
        <p:spPr>
          <a:xfrm>
            <a:off x="284364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7739280" y="3710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3167280" y="558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5002560" y="556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4421520" y="3710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7193160" y="55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872" name="圆角矩形 2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873" name="圆角矩形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876" name="椭圆 4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椭圆 5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878" name="椭圆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9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椭圆 12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1" name="椭圆 13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882" name="椭圆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" name="圆角矩形 14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885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6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7" name="圆角矩形 15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888" name="圆角矩形 1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圆角矩形 16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891" name="圆角矩形 1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2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3" name="圆角矩形 17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894" name="圆角矩形 1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5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6" name="八边形 18"/>
          <p:cNvSpPr/>
          <p:nvPr/>
        </p:nvSpPr>
        <p:spPr>
          <a:xfrm>
            <a:off x="441360" y="135252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31"/>
          <p:cNvGrpSpPr/>
          <p:nvPr/>
        </p:nvGrpSpPr>
        <p:grpSpPr>
          <a:xfrm>
            <a:off x="4773600" y="5294160"/>
            <a:ext cx="1690560" cy="1067040"/>
            <a:chOff x="4773600" y="5294160"/>
            <a:chExt cx="1690560" cy="1067040"/>
          </a:xfrm>
        </p:grpSpPr>
        <p:sp>
          <p:nvSpPr>
            <p:cNvPr id="898" name="Oval 32"/>
            <p:cNvSpPr/>
            <p:nvPr/>
          </p:nvSpPr>
          <p:spPr>
            <a:xfrm>
              <a:off x="4773600" y="6021360"/>
              <a:ext cx="1687320" cy="33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33"/>
            <p:cNvSpPr/>
            <p:nvPr/>
          </p:nvSpPr>
          <p:spPr>
            <a:xfrm>
              <a:off x="4773600" y="5294160"/>
              <a:ext cx="1687320" cy="33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4"/>
            <p:cNvSpPr/>
            <p:nvPr/>
          </p:nvSpPr>
          <p:spPr>
            <a:xfrm>
              <a:off x="4773600" y="5463720"/>
              <a:ext cx="1690560" cy="89712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Oval 5"/>
          <p:cNvSpPr/>
          <p:nvPr/>
        </p:nvSpPr>
        <p:spPr>
          <a:xfrm>
            <a:off x="426960" y="5873760"/>
            <a:ext cx="1395360" cy="4986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6"/>
          <p:cNvSpPr/>
          <p:nvPr/>
        </p:nvSpPr>
        <p:spPr>
          <a:xfrm>
            <a:off x="412920" y="5045040"/>
            <a:ext cx="1395360" cy="4986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8"/>
          <p:cNvSpPr/>
          <p:nvPr/>
        </p:nvSpPr>
        <p:spPr>
          <a:xfrm>
            <a:off x="409680" y="5319720"/>
            <a:ext cx="1398600" cy="1039680"/>
          </a:xfrm>
          <a:custGeom>
            <a:avLst/>
            <a:gdLst/>
            <a:ahLst/>
            <a:rect l="l" t="t" r="r" b="b"/>
            <a:pathLst>
              <a:path w="1828" h="1776">
                <a:moveTo>
                  <a:pt x="2" y="0"/>
                </a:moveTo>
                <a:lnTo>
                  <a:pt x="2" y="1440"/>
                </a:lnTo>
                <a:lnTo>
                  <a:pt x="9" y="1482"/>
                </a:lnTo>
                <a:lnTo>
                  <a:pt x="27" y="1519"/>
                </a:lnTo>
                <a:lnTo>
                  <a:pt x="61" y="1562"/>
                </a:lnTo>
                <a:lnTo>
                  <a:pt x="110" y="1600"/>
                </a:lnTo>
                <a:lnTo>
                  <a:pt x="166" y="1634"/>
                </a:lnTo>
                <a:lnTo>
                  <a:pt x="223" y="1660"/>
                </a:lnTo>
                <a:lnTo>
                  <a:pt x="285" y="1684"/>
                </a:lnTo>
                <a:lnTo>
                  <a:pt x="346" y="1705"/>
                </a:lnTo>
                <a:lnTo>
                  <a:pt x="420" y="1722"/>
                </a:lnTo>
                <a:lnTo>
                  <a:pt x="489" y="1736"/>
                </a:lnTo>
                <a:lnTo>
                  <a:pt x="567" y="1751"/>
                </a:lnTo>
                <a:lnTo>
                  <a:pt x="644" y="1760"/>
                </a:lnTo>
                <a:lnTo>
                  <a:pt x="717" y="1766"/>
                </a:lnTo>
                <a:lnTo>
                  <a:pt x="805" y="1775"/>
                </a:lnTo>
                <a:lnTo>
                  <a:pt x="962" y="1776"/>
                </a:lnTo>
                <a:lnTo>
                  <a:pt x="1053" y="1771"/>
                </a:lnTo>
                <a:lnTo>
                  <a:pt x="1134" y="1766"/>
                </a:lnTo>
                <a:lnTo>
                  <a:pt x="1207" y="1759"/>
                </a:lnTo>
                <a:lnTo>
                  <a:pt x="1274" y="1750"/>
                </a:lnTo>
                <a:lnTo>
                  <a:pt x="1351" y="1736"/>
                </a:lnTo>
                <a:lnTo>
                  <a:pt x="1414" y="1722"/>
                </a:lnTo>
                <a:lnTo>
                  <a:pt x="1489" y="1702"/>
                </a:lnTo>
                <a:lnTo>
                  <a:pt x="1550" y="1681"/>
                </a:lnTo>
                <a:lnTo>
                  <a:pt x="1621" y="1655"/>
                </a:lnTo>
                <a:lnTo>
                  <a:pt x="1672" y="1628"/>
                </a:lnTo>
                <a:lnTo>
                  <a:pt x="1726" y="1595"/>
                </a:lnTo>
                <a:lnTo>
                  <a:pt x="1773" y="1556"/>
                </a:lnTo>
                <a:lnTo>
                  <a:pt x="1810" y="1500"/>
                </a:lnTo>
                <a:lnTo>
                  <a:pt x="1827" y="1456"/>
                </a:lnTo>
                <a:lnTo>
                  <a:pt x="1828" y="1440"/>
                </a:lnTo>
                <a:lnTo>
                  <a:pt x="1826" y="0"/>
                </a:lnTo>
                <a:lnTo>
                  <a:pt x="1821" y="30"/>
                </a:lnTo>
                <a:lnTo>
                  <a:pt x="1812" y="61"/>
                </a:lnTo>
                <a:lnTo>
                  <a:pt x="1792" y="92"/>
                </a:lnTo>
                <a:cubicBezTo>
                  <a:pt x="1783" y="104"/>
                  <a:pt x="1767" y="123"/>
                  <a:pt x="1756" y="134"/>
                </a:cubicBezTo>
                <a:lnTo>
                  <a:pt x="1724" y="157"/>
                </a:lnTo>
                <a:lnTo>
                  <a:pt x="1683" y="182"/>
                </a:lnTo>
                <a:lnTo>
                  <a:pt x="1633" y="209"/>
                </a:lnTo>
                <a:lnTo>
                  <a:pt x="1573" y="233"/>
                </a:lnTo>
                <a:lnTo>
                  <a:pt x="1519" y="253"/>
                </a:lnTo>
                <a:lnTo>
                  <a:pt x="1468" y="269"/>
                </a:lnTo>
                <a:lnTo>
                  <a:pt x="1423" y="281"/>
                </a:lnTo>
                <a:lnTo>
                  <a:pt x="1365" y="294"/>
                </a:lnTo>
                <a:lnTo>
                  <a:pt x="1305" y="305"/>
                </a:lnTo>
                <a:lnTo>
                  <a:pt x="1246" y="313"/>
                </a:lnTo>
                <a:lnTo>
                  <a:pt x="1192" y="320"/>
                </a:lnTo>
                <a:lnTo>
                  <a:pt x="1130" y="326"/>
                </a:lnTo>
                <a:lnTo>
                  <a:pt x="1068" y="331"/>
                </a:lnTo>
                <a:lnTo>
                  <a:pt x="1002" y="334"/>
                </a:lnTo>
                <a:lnTo>
                  <a:pt x="914" y="336"/>
                </a:lnTo>
                <a:lnTo>
                  <a:pt x="805" y="334"/>
                </a:lnTo>
                <a:lnTo>
                  <a:pt x="724" y="329"/>
                </a:lnTo>
                <a:lnTo>
                  <a:pt x="628" y="319"/>
                </a:lnTo>
                <a:lnTo>
                  <a:pt x="538" y="306"/>
                </a:lnTo>
                <a:lnTo>
                  <a:pt x="480" y="295"/>
                </a:lnTo>
                <a:lnTo>
                  <a:pt x="415" y="281"/>
                </a:lnTo>
                <a:lnTo>
                  <a:pt x="354" y="266"/>
                </a:lnTo>
                <a:lnTo>
                  <a:pt x="291" y="246"/>
                </a:lnTo>
                <a:lnTo>
                  <a:pt x="234" y="224"/>
                </a:lnTo>
                <a:lnTo>
                  <a:pt x="177" y="199"/>
                </a:lnTo>
                <a:cubicBezTo>
                  <a:pt x="158" y="189"/>
                  <a:pt x="138" y="177"/>
                  <a:pt x="122" y="167"/>
                </a:cubicBezTo>
                <a:lnTo>
                  <a:pt x="79" y="137"/>
                </a:lnTo>
                <a:cubicBezTo>
                  <a:pt x="66" y="126"/>
                  <a:pt x="54" y="114"/>
                  <a:pt x="43" y="101"/>
                </a:cubicBezTo>
                <a:lnTo>
                  <a:pt x="14" y="58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9"/>
          <p:cNvSpPr/>
          <p:nvPr/>
        </p:nvSpPr>
        <p:spPr>
          <a:xfrm flipV="1" rot="10800000">
            <a:off x="410760" y="4227480"/>
            <a:ext cx="1397160" cy="131616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16"/>
          <p:cNvGrpSpPr/>
          <p:nvPr/>
        </p:nvGrpSpPr>
        <p:grpSpPr>
          <a:xfrm>
            <a:off x="2563920" y="4795920"/>
            <a:ext cx="1690560" cy="1565280"/>
            <a:chOff x="2563920" y="4795920"/>
            <a:chExt cx="1690560" cy="1565280"/>
          </a:xfrm>
        </p:grpSpPr>
        <p:sp>
          <p:nvSpPr>
            <p:cNvPr id="906" name="Oval 12"/>
            <p:cNvSpPr/>
            <p:nvPr/>
          </p:nvSpPr>
          <p:spPr>
            <a:xfrm>
              <a:off x="2563920" y="5862600"/>
              <a:ext cx="1687320" cy="49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3"/>
            <p:cNvSpPr/>
            <p:nvPr/>
          </p:nvSpPr>
          <p:spPr>
            <a:xfrm>
              <a:off x="2563920" y="4795920"/>
              <a:ext cx="1687320" cy="49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5"/>
            <p:cNvSpPr/>
            <p:nvPr/>
          </p:nvSpPr>
          <p:spPr>
            <a:xfrm>
              <a:off x="2563920" y="5045040"/>
              <a:ext cx="1690560" cy="1316160"/>
            </a:xfrm>
            <a:custGeom>
              <a:avLst/>
              <a:gdLst/>
              <a:ahLst/>
              <a:rect l="l" t="t" r="r" b="b"/>
              <a:pathLst>
                <a:path w="1828" h="1776">
                  <a:moveTo>
                    <a:pt x="2" y="0"/>
                  </a:moveTo>
                  <a:lnTo>
                    <a:pt x="2" y="1440"/>
                  </a:lnTo>
                  <a:lnTo>
                    <a:pt x="9" y="1482"/>
                  </a:lnTo>
                  <a:lnTo>
                    <a:pt x="27" y="1519"/>
                  </a:lnTo>
                  <a:lnTo>
                    <a:pt x="61" y="1562"/>
                  </a:lnTo>
                  <a:lnTo>
                    <a:pt x="110" y="1600"/>
                  </a:lnTo>
                  <a:lnTo>
                    <a:pt x="166" y="1634"/>
                  </a:lnTo>
                  <a:lnTo>
                    <a:pt x="223" y="1660"/>
                  </a:lnTo>
                  <a:lnTo>
                    <a:pt x="285" y="1684"/>
                  </a:lnTo>
                  <a:lnTo>
                    <a:pt x="346" y="1705"/>
                  </a:lnTo>
                  <a:lnTo>
                    <a:pt x="420" y="1722"/>
                  </a:lnTo>
                  <a:lnTo>
                    <a:pt x="489" y="1736"/>
                  </a:lnTo>
                  <a:lnTo>
                    <a:pt x="567" y="1751"/>
                  </a:lnTo>
                  <a:lnTo>
                    <a:pt x="644" y="1760"/>
                  </a:lnTo>
                  <a:lnTo>
                    <a:pt x="717" y="1766"/>
                  </a:lnTo>
                  <a:lnTo>
                    <a:pt x="805" y="1775"/>
                  </a:lnTo>
                  <a:lnTo>
                    <a:pt x="962" y="1776"/>
                  </a:lnTo>
                  <a:lnTo>
                    <a:pt x="1053" y="1771"/>
                  </a:lnTo>
                  <a:lnTo>
                    <a:pt x="1134" y="1766"/>
                  </a:lnTo>
                  <a:lnTo>
                    <a:pt x="1207" y="1759"/>
                  </a:lnTo>
                  <a:lnTo>
                    <a:pt x="1274" y="1750"/>
                  </a:lnTo>
                  <a:lnTo>
                    <a:pt x="1351" y="1736"/>
                  </a:lnTo>
                  <a:lnTo>
                    <a:pt x="1414" y="1722"/>
                  </a:lnTo>
                  <a:lnTo>
                    <a:pt x="1489" y="1702"/>
                  </a:lnTo>
                  <a:lnTo>
                    <a:pt x="1550" y="1681"/>
                  </a:lnTo>
                  <a:lnTo>
                    <a:pt x="1621" y="1655"/>
                  </a:lnTo>
                  <a:lnTo>
                    <a:pt x="1672" y="1628"/>
                  </a:lnTo>
                  <a:lnTo>
                    <a:pt x="1726" y="1595"/>
                  </a:lnTo>
                  <a:lnTo>
                    <a:pt x="1773" y="1556"/>
                  </a:lnTo>
                  <a:lnTo>
                    <a:pt x="1810" y="1500"/>
                  </a:lnTo>
                  <a:lnTo>
                    <a:pt x="1827" y="1456"/>
                  </a:lnTo>
                  <a:lnTo>
                    <a:pt x="1828" y="1440"/>
                  </a:lnTo>
                  <a:lnTo>
                    <a:pt x="1826" y="0"/>
                  </a:lnTo>
                  <a:lnTo>
                    <a:pt x="1821" y="30"/>
                  </a:lnTo>
                  <a:lnTo>
                    <a:pt x="1812" y="61"/>
                  </a:lnTo>
                  <a:lnTo>
                    <a:pt x="1792" y="92"/>
                  </a:lnTo>
                  <a:cubicBezTo>
                    <a:pt x="1783" y="104"/>
                    <a:pt x="1767" y="123"/>
                    <a:pt x="1756" y="134"/>
                  </a:cubicBezTo>
                  <a:lnTo>
                    <a:pt x="1724" y="157"/>
                  </a:lnTo>
                  <a:lnTo>
                    <a:pt x="1683" y="182"/>
                  </a:lnTo>
                  <a:lnTo>
                    <a:pt x="1633" y="209"/>
                  </a:lnTo>
                  <a:lnTo>
                    <a:pt x="1573" y="233"/>
                  </a:lnTo>
                  <a:lnTo>
                    <a:pt x="1519" y="253"/>
                  </a:lnTo>
                  <a:lnTo>
                    <a:pt x="1468" y="269"/>
                  </a:lnTo>
                  <a:lnTo>
                    <a:pt x="1423" y="281"/>
                  </a:lnTo>
                  <a:lnTo>
                    <a:pt x="1365" y="294"/>
                  </a:lnTo>
                  <a:lnTo>
                    <a:pt x="1305" y="305"/>
                  </a:lnTo>
                  <a:lnTo>
                    <a:pt x="1246" y="313"/>
                  </a:lnTo>
                  <a:lnTo>
                    <a:pt x="1192" y="320"/>
                  </a:lnTo>
                  <a:lnTo>
                    <a:pt x="1130" y="326"/>
                  </a:lnTo>
                  <a:lnTo>
                    <a:pt x="1068" y="331"/>
                  </a:lnTo>
                  <a:lnTo>
                    <a:pt x="1002" y="334"/>
                  </a:lnTo>
                  <a:lnTo>
                    <a:pt x="914" y="336"/>
                  </a:lnTo>
                  <a:lnTo>
                    <a:pt x="805" y="334"/>
                  </a:lnTo>
                  <a:lnTo>
                    <a:pt x="724" y="329"/>
                  </a:lnTo>
                  <a:lnTo>
                    <a:pt x="628" y="319"/>
                  </a:lnTo>
                  <a:lnTo>
                    <a:pt x="538" y="306"/>
                  </a:lnTo>
                  <a:lnTo>
                    <a:pt x="480" y="295"/>
                  </a:lnTo>
                  <a:lnTo>
                    <a:pt x="415" y="281"/>
                  </a:lnTo>
                  <a:lnTo>
                    <a:pt x="354" y="266"/>
                  </a:lnTo>
                  <a:lnTo>
                    <a:pt x="291" y="246"/>
                  </a:lnTo>
                  <a:lnTo>
                    <a:pt x="234" y="224"/>
                  </a:lnTo>
                  <a:lnTo>
                    <a:pt x="177" y="199"/>
                  </a:lnTo>
                  <a:cubicBezTo>
                    <a:pt x="158" y="189"/>
                    <a:pt x="138" y="177"/>
                    <a:pt x="122" y="167"/>
                  </a:cubicBezTo>
                  <a:lnTo>
                    <a:pt x="79" y="137"/>
                  </a:lnTo>
                  <a:cubicBezTo>
                    <a:pt x="66" y="126"/>
                    <a:pt x="54" y="114"/>
                    <a:pt x="43" y="101"/>
                  </a:cubicBezTo>
                  <a:lnTo>
                    <a:pt x="14" y="5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Oval 23"/>
          <p:cNvSpPr/>
          <p:nvPr/>
        </p:nvSpPr>
        <p:spPr>
          <a:xfrm>
            <a:off x="6734160" y="5575320"/>
            <a:ext cx="1687680" cy="4986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4"/>
          <p:cNvSpPr/>
          <p:nvPr/>
        </p:nvSpPr>
        <p:spPr>
          <a:xfrm flipV="1" rot="10800000">
            <a:off x="6732720" y="4757760"/>
            <a:ext cx="1689120" cy="131616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28"/>
          <p:cNvSpPr/>
          <p:nvPr/>
        </p:nvSpPr>
        <p:spPr>
          <a:xfrm flipV="1" rot="50400">
            <a:off x="4917960" y="4629960"/>
            <a:ext cx="1400400" cy="81288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5"/>
          <p:cNvSpPr/>
          <p:nvPr/>
        </p:nvSpPr>
        <p:spPr>
          <a:xfrm>
            <a:off x="4925880" y="4627440"/>
            <a:ext cx="1392480" cy="30960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26"/>
          <p:cNvSpPr/>
          <p:nvPr/>
        </p:nvSpPr>
        <p:spPr>
          <a:xfrm flipV="1" rot="10800000">
            <a:off x="4924440" y="4121280"/>
            <a:ext cx="1393920" cy="815760"/>
          </a:xfrm>
          <a:custGeom>
            <a:avLst/>
            <a:gdLst/>
            <a:ahLst/>
            <a:rect l="l" t="t" r="r" b="b"/>
            <a:pathLst>
              <a:path w="1827" h="1776">
                <a:moveTo>
                  <a:pt x="1" y="1442"/>
                </a:moveTo>
                <a:lnTo>
                  <a:pt x="0" y="1442"/>
                </a:lnTo>
                <a:lnTo>
                  <a:pt x="11" y="1382"/>
                </a:lnTo>
                <a:lnTo>
                  <a:pt x="913" y="0"/>
                </a:lnTo>
                <a:lnTo>
                  <a:pt x="1799" y="1366"/>
                </a:lnTo>
                <a:lnTo>
                  <a:pt x="1827" y="1438"/>
                </a:lnTo>
                <a:lnTo>
                  <a:pt x="1817" y="1493"/>
                </a:lnTo>
                <a:lnTo>
                  <a:pt x="1789" y="1535"/>
                </a:lnTo>
                <a:lnTo>
                  <a:pt x="1766" y="1561"/>
                </a:lnTo>
                <a:lnTo>
                  <a:pt x="1731" y="1592"/>
                </a:lnTo>
                <a:lnTo>
                  <a:pt x="1655" y="1637"/>
                </a:lnTo>
                <a:lnTo>
                  <a:pt x="1574" y="1673"/>
                </a:lnTo>
                <a:lnTo>
                  <a:pt x="1497" y="1700"/>
                </a:lnTo>
                <a:lnTo>
                  <a:pt x="1427" y="1718"/>
                </a:lnTo>
                <a:lnTo>
                  <a:pt x="1344" y="1738"/>
                </a:lnTo>
                <a:lnTo>
                  <a:pt x="1255" y="1753"/>
                </a:lnTo>
                <a:lnTo>
                  <a:pt x="1159" y="1763"/>
                </a:lnTo>
                <a:lnTo>
                  <a:pt x="1063" y="1774"/>
                </a:lnTo>
                <a:lnTo>
                  <a:pt x="989" y="1775"/>
                </a:lnTo>
                <a:lnTo>
                  <a:pt x="913" y="1776"/>
                </a:lnTo>
                <a:lnTo>
                  <a:pt x="810" y="1776"/>
                </a:lnTo>
                <a:lnTo>
                  <a:pt x="725" y="1769"/>
                </a:lnTo>
                <a:lnTo>
                  <a:pt x="627" y="1760"/>
                </a:lnTo>
                <a:lnTo>
                  <a:pt x="547" y="1747"/>
                </a:lnTo>
                <a:lnTo>
                  <a:pt x="456" y="1732"/>
                </a:lnTo>
                <a:lnTo>
                  <a:pt x="385" y="1715"/>
                </a:lnTo>
                <a:lnTo>
                  <a:pt x="312" y="1693"/>
                </a:lnTo>
                <a:lnTo>
                  <a:pt x="239" y="1669"/>
                </a:lnTo>
                <a:lnTo>
                  <a:pt x="175" y="1637"/>
                </a:lnTo>
                <a:lnTo>
                  <a:pt x="107" y="1600"/>
                </a:lnTo>
                <a:lnTo>
                  <a:pt x="61" y="1561"/>
                </a:lnTo>
                <a:lnTo>
                  <a:pt x="26" y="1520"/>
                </a:lnTo>
                <a:lnTo>
                  <a:pt x="8" y="1484"/>
                </a:lnTo>
                <a:lnTo>
                  <a:pt x="1" y="144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5"/>
          <p:cNvSpPr/>
          <p:nvPr/>
        </p:nvSpPr>
        <p:spPr>
          <a:xfrm>
            <a:off x="990720" y="1550880"/>
            <a:ext cx="0" cy="189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36"/>
          <p:cNvSpPr/>
          <p:nvPr/>
        </p:nvSpPr>
        <p:spPr>
          <a:xfrm>
            <a:off x="990720" y="1843200"/>
            <a:ext cx="846000" cy="1154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7"/>
          <p:cNvSpPr/>
          <p:nvPr/>
        </p:nvSpPr>
        <p:spPr>
          <a:xfrm>
            <a:off x="5311800" y="2523960"/>
            <a:ext cx="641160" cy="79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8"/>
          <p:cNvSpPr/>
          <p:nvPr/>
        </p:nvSpPr>
        <p:spPr>
          <a:xfrm>
            <a:off x="5311800" y="1268280"/>
            <a:ext cx="0" cy="227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9"/>
          <p:cNvSpPr/>
          <p:nvPr/>
        </p:nvSpPr>
        <p:spPr>
          <a:xfrm>
            <a:off x="5311800" y="1598760"/>
            <a:ext cx="641160" cy="92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0"/>
          <p:cNvSpPr/>
          <p:nvPr/>
        </p:nvSpPr>
        <p:spPr>
          <a:xfrm>
            <a:off x="3095640" y="1550880"/>
            <a:ext cx="0" cy="189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1"/>
          <p:cNvSpPr/>
          <p:nvPr/>
        </p:nvSpPr>
        <p:spPr>
          <a:xfrm>
            <a:off x="3095640" y="299736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42"/>
          <p:cNvSpPr/>
          <p:nvPr/>
        </p:nvSpPr>
        <p:spPr>
          <a:xfrm>
            <a:off x="3095640" y="1843200"/>
            <a:ext cx="828720" cy="11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43"/>
          <p:cNvSpPr/>
          <p:nvPr/>
        </p:nvSpPr>
        <p:spPr>
          <a:xfrm>
            <a:off x="7475400" y="1239840"/>
            <a:ext cx="0" cy="250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44"/>
          <p:cNvSpPr/>
          <p:nvPr/>
        </p:nvSpPr>
        <p:spPr>
          <a:xfrm>
            <a:off x="7475400" y="2600280"/>
            <a:ext cx="8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45"/>
          <p:cNvSpPr/>
          <p:nvPr/>
        </p:nvSpPr>
        <p:spPr>
          <a:xfrm>
            <a:off x="7475400" y="1446120"/>
            <a:ext cx="655920" cy="57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6"/>
          <p:cNvSpPr/>
          <p:nvPr/>
        </p:nvSpPr>
        <p:spPr>
          <a:xfrm>
            <a:off x="7475400" y="2600280"/>
            <a:ext cx="828720" cy="79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47"/>
          <p:cNvSpPr/>
          <p:nvPr/>
        </p:nvSpPr>
        <p:spPr>
          <a:xfrm flipH="1">
            <a:off x="7475400" y="2023920"/>
            <a:ext cx="65592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50"/>
          <p:cNvSpPr/>
          <p:nvPr/>
        </p:nvSpPr>
        <p:spPr>
          <a:xfrm>
            <a:off x="1514520" y="3394080"/>
            <a:ext cx="1861920" cy="13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51"/>
          <p:cNvSpPr/>
          <p:nvPr/>
        </p:nvSpPr>
        <p:spPr>
          <a:xfrm>
            <a:off x="3684600" y="3317760"/>
            <a:ext cx="3591000" cy="12430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52"/>
          <p:cNvSpPr/>
          <p:nvPr/>
        </p:nvSpPr>
        <p:spPr>
          <a:xfrm flipH="1">
            <a:off x="6318000" y="3394080"/>
            <a:ext cx="957240" cy="11667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53"/>
          <p:cNvSpPr/>
          <p:nvPr/>
        </p:nvSpPr>
        <p:spPr>
          <a:xfrm flipH="1">
            <a:off x="1514160" y="2997360"/>
            <a:ext cx="3546360" cy="13302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54"/>
          <p:cNvSpPr/>
          <p:nvPr/>
        </p:nvSpPr>
        <p:spPr>
          <a:xfrm>
            <a:off x="706320" y="398520"/>
            <a:ext cx="70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图形以红色线为轴快速旋转后会形成什么图形？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37"/>
          <p:cNvSpPr/>
          <p:nvPr/>
        </p:nvSpPr>
        <p:spPr>
          <a:xfrm>
            <a:off x="984960" y="1528920"/>
            <a:ext cx="3240" cy="1917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38"/>
          <p:cNvSpPr/>
          <p:nvPr/>
        </p:nvSpPr>
        <p:spPr>
          <a:xfrm>
            <a:off x="3102840" y="1528920"/>
            <a:ext cx="3240" cy="1917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41"/>
          <p:cNvSpPr/>
          <p:nvPr/>
        </p:nvSpPr>
        <p:spPr>
          <a:xfrm flipH="1">
            <a:off x="7482960" y="1236600"/>
            <a:ext cx="1800" cy="25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43"/>
          <p:cNvSpPr/>
          <p:nvPr/>
        </p:nvSpPr>
        <p:spPr>
          <a:xfrm flipH="1">
            <a:off x="5289120" y="1195560"/>
            <a:ext cx="1800" cy="24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八边形 7"/>
          <p:cNvSpPr/>
          <p:nvPr/>
        </p:nvSpPr>
        <p:spPr>
          <a:xfrm>
            <a:off x="289080" y="554040"/>
            <a:ext cx="52200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304920" y="1552680"/>
            <a:ext cx="8305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柱是由几个面围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手平摸上、下两个面，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、下两个面的面积大小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怎么知道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双手摸侧面，滚一滚，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还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171" name="圆角矩形 2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172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想一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175" name="椭圆 4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椭圆 6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177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椭圆 7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椭圆 8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181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圆角矩形 9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184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圆角矩形 10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187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圆角矩形 12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190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圆角矩形 1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193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矩形 5"/>
          <p:cNvSpPr/>
          <p:nvPr/>
        </p:nvSpPr>
        <p:spPr>
          <a:xfrm>
            <a:off x="179280" y="135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学习了本节课，你认为有哪些内容是需要提醒大家注意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939" name="圆角矩形 2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940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课堂小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943" name="椭圆 4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4" name="椭圆 6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945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6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7" name="椭圆 7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8" name="椭圆 8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949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0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圆角矩形 9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952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3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圆角矩形 10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955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6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圆角矩形 12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958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9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圆角矩形 1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961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2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63" name="图片 28" descr=""/>
          <p:cNvPicPr/>
          <p:nvPr/>
        </p:nvPicPr>
        <p:blipFill>
          <a:blip r:embed="rId8"/>
          <a:srcRect l="0" t="0" r="0" b="10917"/>
          <a:stretch/>
        </p:blipFill>
        <p:spPr>
          <a:xfrm>
            <a:off x="1066680" y="2495520"/>
            <a:ext cx="64612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圆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1000" y="2440080"/>
            <a:ext cx="6642000" cy="27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柱上、下一样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、下两个面是大小相等的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一个面是弯曲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16"/>
          <p:cNvGrpSpPr/>
          <p:nvPr/>
        </p:nvGrpSpPr>
        <p:grpSpPr>
          <a:xfrm>
            <a:off x="430200" y="1866960"/>
            <a:ext cx="8458200" cy="3124080"/>
            <a:chOff x="430200" y="1866960"/>
            <a:chExt cx="8458200" cy="3124080"/>
          </a:xfrm>
        </p:grpSpPr>
        <p:pic>
          <p:nvPicPr>
            <p:cNvPr id="198" name="Picture 3" descr=""/>
            <p:cNvPicPr/>
            <p:nvPr/>
          </p:nvPicPr>
          <p:blipFill>
            <a:blip r:embed="rId1"/>
            <a:stretch/>
          </p:blipFill>
          <p:spPr>
            <a:xfrm>
              <a:off x="430200" y="1866960"/>
              <a:ext cx="8458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15"/>
            <p:cNvSpPr/>
            <p:nvPr/>
          </p:nvSpPr>
          <p:spPr>
            <a:xfrm>
              <a:off x="430200" y="1866960"/>
              <a:ext cx="5920560" cy="1739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圆柱的上下两个面叫作圆柱的</a:t>
              </a:r>
              <a:r>
                <a:rPr b="0" lang="zh-CN" sz="3600" spc="-1" strike="noStrike">
                  <a:solidFill>
                    <a:srgbClr val="ff0000"/>
                  </a:solidFill>
                  <a:latin typeface="宋体"/>
                </a:rPr>
                <a:t>底面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，围成圆柱的曲面叫作圆柱的</a:t>
              </a:r>
              <a:r>
                <a:rPr b="0" lang="zh-CN" sz="3600" spc="-1" strike="noStrike">
                  <a:solidFill>
                    <a:srgbClr val="ff0000"/>
                  </a:solidFill>
                  <a:latin typeface="宋体"/>
                </a:rPr>
                <a:t>侧面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，圆柱两个底面之间的距离叫作圆柱的</a:t>
              </a:r>
              <a:r>
                <a:rPr b="0" lang="zh-CN" sz="3600" spc="-1" strike="noStrike">
                  <a:solidFill>
                    <a:srgbClr val="ff0000"/>
                  </a:solidFill>
                  <a:latin typeface="宋体"/>
                </a:rPr>
                <a:t>高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93280" y="11462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指出下面图形中哪些是圆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306360" y="1841400"/>
            <a:ext cx="2606760" cy="1658880"/>
            <a:chOff x="306360" y="1841400"/>
            <a:chExt cx="2606760" cy="1658880"/>
          </a:xfrm>
        </p:grpSpPr>
        <p:grpSp>
          <p:nvGrpSpPr>
            <p:cNvPr id="202" name="Group 4"/>
            <p:cNvGrpSpPr/>
            <p:nvPr/>
          </p:nvGrpSpPr>
          <p:grpSpPr>
            <a:xfrm>
              <a:off x="474480" y="1976400"/>
              <a:ext cx="2438640" cy="1523880"/>
              <a:chOff x="474480" y="1976400"/>
              <a:chExt cx="2438640" cy="1523880"/>
            </a:xfrm>
          </p:grpSpPr>
          <p:sp>
            <p:nvSpPr>
              <p:cNvPr id="203" name="AutoShape 5"/>
              <p:cNvSpPr/>
              <p:nvPr/>
            </p:nvSpPr>
            <p:spPr>
              <a:xfrm rot="10800000">
                <a:off x="474480" y="2101680"/>
                <a:ext cx="2438640" cy="1222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e0e3"/>
              </a:solidFill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6"/>
              <p:cNvSpPr/>
              <p:nvPr/>
            </p:nvSpPr>
            <p:spPr>
              <a:xfrm>
                <a:off x="1047960" y="1976400"/>
                <a:ext cx="1291680" cy="33696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7"/>
              <p:cNvSpPr/>
              <p:nvPr/>
            </p:nvSpPr>
            <p:spPr>
              <a:xfrm>
                <a:off x="528480" y="3163320"/>
                <a:ext cx="2366280" cy="336960"/>
              </a:xfrm>
              <a:prstGeom prst="ellipse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8"/>
            <p:cNvSpPr/>
            <p:nvPr/>
          </p:nvSpPr>
          <p:spPr>
            <a:xfrm>
              <a:off x="306360" y="18414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9"/>
          <p:cNvGrpSpPr/>
          <p:nvPr/>
        </p:nvGrpSpPr>
        <p:grpSpPr>
          <a:xfrm>
            <a:off x="3962160" y="1978200"/>
            <a:ext cx="1648800" cy="1218960"/>
            <a:chOff x="3962160" y="1978200"/>
            <a:chExt cx="1648800" cy="1218960"/>
          </a:xfrm>
        </p:grpSpPr>
        <p:sp>
          <p:nvSpPr>
            <p:cNvPr id="208" name="Rectangle 10"/>
            <p:cNvSpPr/>
            <p:nvPr/>
          </p:nvSpPr>
          <p:spPr>
            <a:xfrm rot="5400000">
              <a:off x="4186800" y="1950840"/>
              <a:ext cx="1218960" cy="12733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 rot="5400000">
              <a:off x="4835880" y="2397960"/>
              <a:ext cx="1173240" cy="3769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 rot="5400000">
              <a:off x="3564000" y="2397960"/>
              <a:ext cx="1173240" cy="37692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3"/>
          <p:cNvSpPr/>
          <p:nvPr/>
        </p:nvSpPr>
        <p:spPr>
          <a:xfrm>
            <a:off x="3200400" y="18255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4"/>
          <p:cNvGrpSpPr/>
          <p:nvPr/>
        </p:nvGrpSpPr>
        <p:grpSpPr>
          <a:xfrm>
            <a:off x="517320" y="3827520"/>
            <a:ext cx="2148840" cy="2192040"/>
            <a:chOff x="517320" y="3827520"/>
            <a:chExt cx="2148840" cy="2192040"/>
          </a:xfrm>
        </p:grpSpPr>
        <p:grpSp>
          <p:nvGrpSpPr>
            <p:cNvPr id="213" name="Group 15"/>
            <p:cNvGrpSpPr/>
            <p:nvPr/>
          </p:nvGrpSpPr>
          <p:grpSpPr>
            <a:xfrm>
              <a:off x="914040" y="4267080"/>
              <a:ext cx="1752120" cy="1752480"/>
              <a:chOff x="914040" y="4267080"/>
              <a:chExt cx="1752120" cy="1752480"/>
            </a:xfrm>
          </p:grpSpPr>
          <p:sp>
            <p:nvSpPr>
              <p:cNvPr id="214" name="Oval 16"/>
              <p:cNvSpPr/>
              <p:nvPr/>
            </p:nvSpPr>
            <p:spPr>
              <a:xfrm>
                <a:off x="914040" y="4267080"/>
                <a:ext cx="1752120" cy="1752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17"/>
              <p:cNvSpPr/>
              <p:nvPr/>
            </p:nvSpPr>
            <p:spPr>
              <a:xfrm>
                <a:off x="1152720" y="4267080"/>
                <a:ext cx="1274400" cy="525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18"/>
              <p:cNvSpPr/>
              <p:nvPr/>
            </p:nvSpPr>
            <p:spPr>
              <a:xfrm>
                <a:off x="1152720" y="5493960"/>
                <a:ext cx="1274400" cy="525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Rectangle 19"/>
            <p:cNvSpPr/>
            <p:nvPr/>
          </p:nvSpPr>
          <p:spPr>
            <a:xfrm>
              <a:off x="517320" y="38275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2868480" y="3903840"/>
            <a:ext cx="2541600" cy="2419920"/>
            <a:chOff x="2868480" y="3903840"/>
            <a:chExt cx="2541600" cy="2419920"/>
          </a:xfrm>
        </p:grpSpPr>
        <p:grpSp>
          <p:nvGrpSpPr>
            <p:cNvPr id="219" name="Group 21"/>
            <p:cNvGrpSpPr/>
            <p:nvPr/>
          </p:nvGrpSpPr>
          <p:grpSpPr>
            <a:xfrm>
              <a:off x="3504960" y="4038480"/>
              <a:ext cx="1905120" cy="2285280"/>
              <a:chOff x="3504960" y="4038480"/>
              <a:chExt cx="1905120" cy="2285280"/>
            </a:xfrm>
          </p:grpSpPr>
          <p:sp>
            <p:nvSpPr>
              <p:cNvPr id="220" name="Rectangle 22"/>
              <p:cNvSpPr/>
              <p:nvPr/>
            </p:nvSpPr>
            <p:spPr>
              <a:xfrm>
                <a:off x="3504960" y="4300200"/>
                <a:ext cx="1905120" cy="17614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3"/>
              <p:cNvSpPr/>
              <p:nvPr/>
            </p:nvSpPr>
            <p:spPr>
              <a:xfrm>
                <a:off x="3504960" y="4038480"/>
                <a:ext cx="1905120" cy="522000"/>
              </a:xfrm>
              <a:prstGeom prst="ellipse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24"/>
              <p:cNvSpPr/>
              <p:nvPr/>
            </p:nvSpPr>
            <p:spPr>
              <a:xfrm>
                <a:off x="3504960" y="5801760"/>
                <a:ext cx="1905120" cy="52200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25"/>
            <p:cNvSpPr/>
            <p:nvPr/>
          </p:nvSpPr>
          <p:spPr>
            <a:xfrm>
              <a:off x="2868480" y="390384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26"/>
          <p:cNvSpPr/>
          <p:nvPr/>
        </p:nvSpPr>
        <p:spPr>
          <a:xfrm>
            <a:off x="5927760" y="1859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27"/>
          <p:cNvGraphicFramePr/>
          <p:nvPr/>
        </p:nvGraphicFramePr>
        <p:xfrm>
          <a:off x="6629400" y="1825560"/>
          <a:ext cx="14320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825560"/>
                    <a:ext cx="1432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Group 28"/>
          <p:cNvGrpSpPr/>
          <p:nvPr/>
        </p:nvGrpSpPr>
        <p:grpSpPr>
          <a:xfrm>
            <a:off x="6080040" y="3838680"/>
            <a:ext cx="2347920" cy="2409840"/>
            <a:chOff x="6080040" y="3838680"/>
            <a:chExt cx="2347920" cy="2409840"/>
          </a:xfrm>
        </p:grpSpPr>
        <p:grpSp>
          <p:nvGrpSpPr>
            <p:cNvPr id="228" name="Group 29"/>
            <p:cNvGrpSpPr/>
            <p:nvPr/>
          </p:nvGrpSpPr>
          <p:grpSpPr>
            <a:xfrm>
              <a:off x="6847200" y="3916440"/>
              <a:ext cx="1580760" cy="2332080"/>
              <a:chOff x="6847200" y="3916440"/>
              <a:chExt cx="1580760" cy="2332080"/>
            </a:xfrm>
          </p:grpSpPr>
          <p:sp>
            <p:nvSpPr>
              <p:cNvPr id="229" name="Rectangle 30"/>
              <p:cNvSpPr/>
              <p:nvPr/>
            </p:nvSpPr>
            <p:spPr>
              <a:xfrm>
                <a:off x="6980400" y="4224600"/>
                <a:ext cx="1230120" cy="17618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31"/>
              <p:cNvSpPr/>
              <p:nvPr/>
            </p:nvSpPr>
            <p:spPr>
              <a:xfrm>
                <a:off x="6980400" y="5726160"/>
                <a:ext cx="1230120" cy="52236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32"/>
              <p:cNvSpPr/>
              <p:nvPr/>
            </p:nvSpPr>
            <p:spPr>
              <a:xfrm>
                <a:off x="7589880" y="4175280"/>
                <a:ext cx="8380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33"/>
              <p:cNvSpPr/>
              <p:nvPr/>
            </p:nvSpPr>
            <p:spPr>
              <a:xfrm rot="2100000">
                <a:off x="6869160" y="4283280"/>
                <a:ext cx="1447920" cy="533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34"/>
            <p:cNvSpPr/>
            <p:nvPr/>
          </p:nvSpPr>
          <p:spPr>
            <a:xfrm>
              <a:off x="6080040" y="383868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35"/>
          <p:cNvSpPr/>
          <p:nvPr/>
        </p:nvSpPr>
        <p:spPr>
          <a:xfrm>
            <a:off x="1352880" y="4662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067880" y="22068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7296480" y="48909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4448880" y="21304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4143960" y="48769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1428840" y="22208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241" name="圆角矩形 2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242" name="圆角矩形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宋体"/>
                  </a:rPr>
                  <a:t>做一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245" name="椭圆 4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椭圆 6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247" name="椭圆 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8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椭圆 7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" name="椭圆 8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251" name="椭圆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圆角矩形 9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254" name="圆角矩形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圆角矩形 10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257" name="圆角矩形 1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8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圆角矩形 12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260" name="圆角矩形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圆角矩形 1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263" name="圆角矩形 1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630360" y="1714680"/>
            <a:ext cx="59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柱是由几个面围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30360" y="2289240"/>
            <a:ext cx="60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你手中的圆柱，上下两个面都是什么形状的？大小相等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什么方法可以验证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19200" y="3657600"/>
            <a:ext cx="63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拿出准备好的圆柱，摸一摸每个面，有什么感觉？上下一样粗吗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30360" y="4722840"/>
            <a:ext cx="54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圆柱的高在哪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找到多少条这样的高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6867360" y="2712960"/>
            <a:ext cx="1967040" cy="2632320"/>
          </a:xfrm>
          <a:prstGeom prst="can">
            <a:avLst>
              <a:gd name="adj" fmla="val 2458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0" y="600120"/>
            <a:ext cx="3244680" cy="525240"/>
            <a:chOff x="0" y="600120"/>
            <a:chExt cx="3244680" cy="525240"/>
          </a:xfrm>
        </p:grpSpPr>
        <p:grpSp>
          <p:nvGrpSpPr>
            <p:cNvPr id="271" name="圆角矩形 2"/>
            <p:cNvGrpSpPr/>
            <p:nvPr/>
          </p:nvGrpSpPr>
          <p:grpSpPr>
            <a:xfrm>
              <a:off x="142200" y="600120"/>
              <a:ext cx="3102480" cy="525240"/>
              <a:chOff x="142200" y="600120"/>
              <a:chExt cx="3102480" cy="525240"/>
            </a:xfrm>
          </p:grpSpPr>
          <p:pic>
            <p:nvPicPr>
              <p:cNvPr id="272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00" y="600120"/>
                <a:ext cx="310248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89720" y="659880"/>
                <a:ext cx="2953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宋体"/>
                  </a:rPr>
                  <a:t>典例精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4"/>
            <p:cNvGrpSpPr/>
            <p:nvPr/>
          </p:nvGrpSpPr>
          <p:grpSpPr>
            <a:xfrm>
              <a:off x="0" y="704880"/>
              <a:ext cx="428760" cy="201960"/>
              <a:chOff x="0" y="704880"/>
              <a:chExt cx="428760" cy="201960"/>
            </a:xfrm>
          </p:grpSpPr>
          <p:sp>
            <p:nvSpPr>
              <p:cNvPr id="275" name="椭圆 4"/>
              <p:cNvSpPr/>
              <p:nvPr/>
            </p:nvSpPr>
            <p:spPr>
              <a:xfrm rot="16200000">
                <a:off x="311760" y="78948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椭圆 6"/>
              <p:cNvGrpSpPr/>
              <p:nvPr/>
            </p:nvGrpSpPr>
            <p:grpSpPr>
              <a:xfrm>
                <a:off x="295560" y="824760"/>
                <a:ext cx="120240" cy="74880"/>
                <a:chOff x="295560" y="824760"/>
                <a:chExt cx="120240" cy="74880"/>
              </a:xfrm>
            </p:grpSpPr>
            <p:pic>
              <p:nvPicPr>
                <p:cNvPr id="277" name="椭圆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560" y="824760"/>
                  <a:ext cx="120240" cy="7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"/>
                <p:cNvSpPr/>
                <p:nvPr/>
              </p:nvSpPr>
              <p:spPr>
                <a:xfrm rot="16200000">
                  <a:off x="330120" y="82008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椭圆 7"/>
              <p:cNvSpPr/>
              <p:nvPr/>
            </p:nvSpPr>
            <p:spPr>
              <a:xfrm rot="16200000">
                <a:off x="311760" y="676440"/>
                <a:ext cx="8856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椭圆 8"/>
              <p:cNvGrpSpPr/>
              <p:nvPr/>
            </p:nvGrpSpPr>
            <p:grpSpPr>
              <a:xfrm>
                <a:off x="295560" y="712080"/>
                <a:ext cx="120240" cy="70920"/>
                <a:chOff x="295560" y="712080"/>
                <a:chExt cx="120240" cy="70920"/>
              </a:xfrm>
            </p:grpSpPr>
            <p:pic>
              <p:nvPicPr>
                <p:cNvPr id="281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560" y="712080"/>
                  <a:ext cx="12024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2" name=""/>
                <p:cNvSpPr/>
                <p:nvPr/>
              </p:nvSpPr>
              <p:spPr>
                <a:xfrm rot="16200000">
                  <a:off x="330120" y="706320"/>
                  <a:ext cx="511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圆角矩形 9"/>
              <p:cNvGrpSpPr/>
              <p:nvPr/>
            </p:nvGrpSpPr>
            <p:grpSpPr>
              <a:xfrm>
                <a:off x="0" y="850680"/>
                <a:ext cx="393840" cy="56160"/>
                <a:chOff x="0" y="850680"/>
                <a:chExt cx="393840" cy="56160"/>
              </a:xfrm>
            </p:grpSpPr>
            <p:pic>
              <p:nvPicPr>
                <p:cNvPr id="284" name="圆角矩形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8506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5" name=""/>
                <p:cNvSpPr/>
                <p:nvPr/>
              </p:nvSpPr>
              <p:spPr>
                <a:xfrm rot="16200000">
                  <a:off x="192960" y="716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圆角矩形 10"/>
              <p:cNvGrpSpPr/>
              <p:nvPr/>
            </p:nvGrpSpPr>
            <p:grpSpPr>
              <a:xfrm>
                <a:off x="0" y="820800"/>
                <a:ext cx="393840" cy="56160"/>
                <a:chOff x="0" y="820800"/>
                <a:chExt cx="393840" cy="56160"/>
              </a:xfrm>
            </p:grpSpPr>
            <p:pic>
              <p:nvPicPr>
                <p:cNvPr id="287" name="圆角矩形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82080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 rot="16200000">
                  <a:off x="192960" y="68832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圆角矩形 12"/>
              <p:cNvGrpSpPr/>
              <p:nvPr/>
            </p:nvGrpSpPr>
            <p:grpSpPr>
              <a:xfrm>
                <a:off x="0" y="734760"/>
                <a:ext cx="393840" cy="56160"/>
                <a:chOff x="0" y="734760"/>
                <a:chExt cx="393840" cy="56160"/>
              </a:xfrm>
            </p:grpSpPr>
            <p:pic>
              <p:nvPicPr>
                <p:cNvPr id="290" name="圆角矩形 1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0" y="73476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 rot="16200000">
                  <a:off x="192960" y="60084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圆角矩形 14"/>
              <p:cNvGrpSpPr/>
              <p:nvPr/>
            </p:nvGrpSpPr>
            <p:grpSpPr>
              <a:xfrm>
                <a:off x="0" y="704880"/>
                <a:ext cx="393840" cy="56160"/>
                <a:chOff x="0" y="704880"/>
                <a:chExt cx="393840" cy="56160"/>
              </a:xfrm>
            </p:grpSpPr>
            <p:pic>
              <p:nvPicPr>
                <p:cNvPr id="293" name="圆角矩形 1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0" y="704880"/>
                  <a:ext cx="393840" cy="5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4" name=""/>
                <p:cNvSpPr/>
                <p:nvPr/>
              </p:nvSpPr>
              <p:spPr>
                <a:xfrm rot="16200000">
                  <a:off x="192960" y="572400"/>
                  <a:ext cx="7200" cy="32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9:5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